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3E6-D2D5-4963-AD5F-38F23953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A46-74D5-4126-B1A8-E63B0E8F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E5-BC18-4E3A-86A4-714F1DB9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845-9746-414D-9E80-0EB25D4D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8A3-AB20-430D-9127-5A46BA2D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FF6-C6ED-47AA-A4E2-D6A84F69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AAC-A658-4469-B94F-0ADCE9A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BF1-E323-41D2-8E7F-D170F25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B38-2C77-4834-860A-E5464D04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8A0-FCE7-40C4-8334-062544E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E53-275F-4E0D-B1C6-D90C2CC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167-E151-4664-BCAB-EC1EA1B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B9E-CCA0-457B-9C5E-6779EA68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FI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ly 256KHz are process by th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polyphase filter stage to go to 1KHz resolution. We will then select subset of 256KHz to apply th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2286000"/>
          <a:ext cx="548640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548640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>
            <a:off x="2209680" y="4419720"/>
            <a:ext cx="15264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95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56KHz data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ilte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95680" y="762120"/>
          <a:ext cx="464832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762120"/>
                    <a:ext cx="464832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81480" y="4343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oom on the bandpass filter characte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762120"/>
          <a:ext cx="44956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44956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3520" y="43434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ilter charactristic: Ideal and realistic filt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5105520"/>
            <a:ext cx="6934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B: Other filter characteristic can be investigate. Other implemenattion of the polyphase filter are already implemented with other window with a better filter response (more than 80dB without the aliasing pea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olyphase filter la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523880"/>
          <a:ext cx="5486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486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43000" y="5638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gain using better filter characte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1600200"/>
          <a:ext cx="396252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600200"/>
                    <a:ext cx="3962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48640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lyphase filte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1KHz RFI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 the last experiment we compare the ideal filter case to the real filter and evaluate the impact of the RFI on a real data set (see other paresenattion for explanation on the way to proceed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48320" y="2133720"/>
          <a:ext cx="44956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4956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2133720"/>
          <a:ext cx="4648320" cy="37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64832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th ideal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867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alistic filter character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mpact of the RFI using  reaistic filter characteristic compare to the ideal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1981080"/>
          <a:ext cx="68184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8184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49:15Z</dcterms:created>
  <dc:creator>Jerome Dromer</dc:creator>
  <dc:description/>
  <dc:language>en-US</dc:language>
  <cp:lastModifiedBy>Jerome Dromer</cp:lastModifiedBy>
  <dcterms:modified xsi:type="dcterms:W3CDTF">2004-02-09T09:11:43Z</dcterms:modified>
  <cp:revision>4</cp:revision>
  <dc:subject/>
  <dc:title>1KHz RFI Impact </dc:title>
</cp:coreProperties>
</file>