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183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4242-A5F1-4F0C-A4D5-6CA94B020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1BF8-4967-4142-8ADF-7C3392AC8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68A8-CDC9-4943-A2DA-D13217B74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1E39-A003-4A90-9FB0-11B978452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22AD-0F8F-429A-BA6B-1C637072A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4536-3968-4292-9AAD-1AA2F56E1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D606-6A97-4FD1-8060-0CB1EE18C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F716-B83F-430C-8723-C24ED72C9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A321-8648-407D-A106-299EB115E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CDD0-A3AA-47CB-833A-D143F239C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148C-E0E9-46F9-A0C5-FF69A8925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95D6-9D68-4E8C-990D-345903141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13777-CA55-43BB-BC89-C36AC133912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Problemat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238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he specification of the main processing have changed: 254 -&gt; 1024 channels (200mHz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herefore we can : 4K -&gt; 16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roblematic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What are the filter characteristic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ow to generate 16K filter windows ?? the max for Matlab is 5K (5K*5K LSQ method-&gt; memory problem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Conclusio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erify the ModelSim bench result and redo to check the ph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Continue writting docu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Theoretical background of digital filt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Filter design moti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Hardware implementation verification: Test benc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erify the result on the test bench itself: Only a subbad subset because (40MHz AD and not enough processing power on the current demo boar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Think about a good way to test on the new board delivered in the end of septemb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Filter characterist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Specifications defined and motivated by: A.G, JB, A.J.B, J.D considering Calibration, RFI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stakehold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BRipple: 0.5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BRipple: 91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Transition Band: 1 subband ( 160/195KH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ecreasing stop band to attenuate far away in the spectrum RFI folding)A document is on progr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Filter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The filter design method fircls1 LSQ based methods gives good result for the basic 2-4K desig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A interpolation should be applied in order to realize 4K -&gt; 16K coefficient generation. (Add 16K coefficients within the 4K coefficients). Two mthod are pos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- Classic: 0 padding + FIR (long if good filter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qualit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- FFT : creation of the bandwidth in padding zeros directly in the frequency dom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Frequency domain comparis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724280" y="914400"/>
            <a:ext cx="4419720" cy="5943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914400"/>
            <a:ext cx="48006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Time domain comparis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815328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FFT Window comparis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7524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FFT method a lot faster than the classic interpolation and gives far better result. The method can be improved in using different windows: trade off are then done on the window sh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04920" y="3429000"/>
            <a:ext cx="8458200" cy="30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Window comparis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5334120" cy="56386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886280" y="1219320"/>
            <a:ext cx="42577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ModelSim VHDL verification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: G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800600" y="1905120"/>
          <a:ext cx="434340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905120"/>
                    <a:ext cx="434340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44280" y="1905120"/>
          <a:ext cx="4908600" cy="4624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280" y="1905120"/>
                    <a:ext cx="4908600" cy="46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ModelSim VHDL verification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: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295280" y="1981080"/>
          <a:ext cx="6324840" cy="43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981080"/>
                    <a:ext cx="6324840" cy="43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3T13:01:19Z</dcterms:created>
  <dc:creator>Jerome Dromer</dc:creator>
  <dc:description/>
  <dc:language>en-US</dc:language>
  <cp:lastModifiedBy>Jerome Dromer</cp:lastModifiedBy>
  <dcterms:modified xsi:type="dcterms:W3CDTF">2004-09-17T15:02:31Z</dcterms:modified>
  <cp:revision>16</cp:revision>
  <dc:subject/>
  <dc:title>Window  comparison FFT method</dc:title>
</cp:coreProperties>
</file>