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3F7-0975-445C-A426-DB462A23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9F0-162A-4F53-AF6C-7E459F75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2B9-6017-4D9E-9C49-9E9548E0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6C7-039C-423E-91CF-9F3CFB2E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A57-CF09-4455-9822-DED55E45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7F2-B261-4E3F-9335-B1F34962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CBA-23B2-4E32-88A5-200656CD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DFC-60B3-4131-8238-DB68E7CA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16D-6F60-45FA-BA1D-F5EB4963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805-7353-4759-9029-E46081E5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A19-44F0-4D1C-B3B1-99E07C7E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69A-E7F4-4160-8683-B291299C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3E8E-AF38-4F5C-9695-06074BCBB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Quantization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1295280"/>
          <a:ext cx="9144000" cy="54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4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3:57:50Z</dcterms:created>
  <dc:creator>Jerome Dromer</dc:creator>
  <dc:description/>
  <dc:language>en-US</dc:language>
  <cp:lastModifiedBy>Jerome Dromer</cp:lastModifiedBy>
  <dcterms:modified xsi:type="dcterms:W3CDTF">2005-02-10T13:57:57Z</dcterms:modified>
  <cp:revision>1</cp:revision>
  <dc:subject/>
  <dc:title>Quantization results</dc:title>
</cp:coreProperties>
</file>