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DB3-654E-440B-9A2D-4536D5B4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D9D-EC08-427F-B3DE-58B393CA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367-C10F-4E27-9F72-845740EB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097-3E1E-4046-AA6E-88C8E9AC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1E6-B951-41B8-9EBF-681F4ACA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ECD-3B42-42B3-8C20-4CAE3A81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CE5-BA97-4863-AAE6-2AFF386F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A5B-5080-4135-BC88-1A63B571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FC8-908A-46F4-AB25-6CE2A835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5BC-4C87-4683-A42E-7FB84C2B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341-9AF6-4EE1-B86C-F8F1F87E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2D4-E963-4E86-9B30-A5D72B17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8484-C9F7-4F88-9346-38DF97934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r 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371600"/>
          <a:ext cx="7620120" cy="49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62012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aiser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990720"/>
          <a:ext cx="76201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6201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85800" y="5715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esting because the order can be calculated before hand: orde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r LS minimum coefficients,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n =40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1 and W2 translate the severity you give to respect the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1600200"/>
          <a:ext cx="73915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3915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r LS zoom, n =40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1295280"/>
          <a:ext cx="8610480" cy="535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1048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Using FirCLS1, n = 30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257800"/>
            <a:ext cx="3733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p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s = 91 at 232KHz wit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92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,5KHz theo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9320" y="5486400"/>
            <a:ext cx="337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o = 59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o theoritical = 97,5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3656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95280" y="4724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om on the Pass band and transition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9:00:49Z</dcterms:created>
  <dc:creator>Jerome Dromer</dc:creator>
  <dc:description/>
  <dc:language>en-US</dc:language>
  <cp:lastModifiedBy>Jerome Dromer</cp:lastModifiedBy>
  <dcterms:modified xsi:type="dcterms:W3CDTF">2004-07-09T11:30:27Z</dcterms:modified>
  <cp:revision>4</cp:revision>
  <dc:subject/>
  <dc:title>Fir Ls</dc:title>
</cp:coreProperties>
</file>