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EBF-5537-419B-B78E-54240CDD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62E-A050-46F9-BC76-3AECA0D0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982-BE56-445B-AFF7-450DD227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3F4-0CC3-4492-9005-067EE9E6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AFE-0730-4972-BE82-805EFD6F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F7B-CE6C-46CE-877C-E8C27C82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7E6-4DBE-4C22-B0CE-C6FF9A32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FF3-3095-4AEC-8E08-4F9DF05A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A90-662B-4D3F-ACE7-5861EDB2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BF9-B9D0-4FCC-88BA-82F8CC0D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8F4-5373-4B61-B376-F86DC1D3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7F9-285A-4B6D-96A4-D72C1677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9883-DA8F-45AE-93ED-BA1F3685B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Quantization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1295280"/>
          <a:ext cx="9144000" cy="54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4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3:57:50Z</dcterms:created>
  <dc:creator>Jerome Dromer</dc:creator>
  <dc:description/>
  <dc:language>en-US</dc:language>
  <cp:lastModifiedBy>Jerome Dromer</cp:lastModifiedBy>
  <dcterms:modified xsi:type="dcterms:W3CDTF">2005-02-10T13:57:57Z</dcterms:modified>
  <cp:revision>1</cp:revision>
  <dc:subject/>
  <dc:title>Quantization results</dc:title>
</cp:coreProperties>
</file>