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2F19-9042-42C0-9501-6BE8811E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FE86-627E-40E1-9221-BF375952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DB55-5332-4F8A-9694-A6AB2F54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3A9C-147B-41F7-B383-7268D76B8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C7B4-721E-4C7B-8F2D-D0CB0F52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BF92-A39A-4A1C-A741-F8F9AE6E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6461-1232-432D-85A1-CB66DDF7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0C2F-C96E-40BE-87A5-CDE941B8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3251-A674-4E06-988C-A3CE26D7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9F11-8773-4CE1-9ECB-B2D2DF7C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D434-7A24-4657-92CD-BAAC7EF8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94AE-CE6F-41D8-A45A-6960BAAE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D3CF-1C64-44B6-9124-FF55816FF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lter test bench algorithm ver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752480"/>
            <a:ext cx="792468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 the data generator implanted by Wietze on the data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ietze does the simulation in sending a specific frequency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and save the output files. (19531Hz; 488281Hz; 683594Hz; '976563Hz; 1464844Hz 1953125Hz; 4882813Hz; 9765625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put fil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utput files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he multiplex of the input and the output (expected out put for the test bench) : downsampled 32 (Due to 100MB interf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4876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im : verify the quality of the sinewave fitting algorithm and evaluate the consequence of the down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tting</a:t>
            </a: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518148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fitting method will evaluate the amplitude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d the phase at the output downsampled of the FPGA. We can then plot the gain, phase plot of the filter in repeating the process for several frequenc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4800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ty of the fitting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tests has been do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 : Error defined here is the root mean squared between the data set and the sine wave reconstructed using (A, Phase) estim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then investigate the impact of the downsampling on the sine wave re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also compare the quality of the fitting in constructing a sine wave with Matlab with almost same amplitude (max input file) and random phase and compare the fitting error of the (input/output of the filter) with the same number of point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Fitting method qual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4876920" cy="3878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00600" y="914400"/>
            <a:ext cx="4343400" cy="3886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8600" y="4876920"/>
            <a:ext cx="845820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quare root error plot in case of the input/output are downsampled or not. We can see the efficiency dropping when the downsapling is applied.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We can also see that perfect case using the fitting method with a Matlab sine generation gives far better result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 the stopba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itting method quality :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op b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2590920"/>
            <a:ext cx="152424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920" y="2286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put about 10MH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2286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utput about 10MH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105520" y="10666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038480" y="2362320"/>
            <a:ext cx="1371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486400" y="426708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4920" y="4267080"/>
            <a:ext cx="449568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We start seing the quantization no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Comparison with Matlab sinewave can be use to detect quantisation noi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Is happening for very weak signal in the bandpass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What power do we expect for sky noise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0:25:40Z</dcterms:created>
  <dc:creator>Jerome Dromer</dc:creator>
  <dc:description/>
  <dc:language>en-US</dc:language>
  <cp:lastModifiedBy>Jerome Dromer</cp:lastModifiedBy>
  <dcterms:modified xsi:type="dcterms:W3CDTF">2004-02-09T13:30:45Z</dcterms:modified>
  <cp:revision>8</cp:revision>
  <dc:subject/>
  <dc:title>Filter test bench algorithm verification</dc:title>
</cp:coreProperties>
</file>