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0ED-6FF1-42BD-8402-6E2225D6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77B-4486-4A39-860E-950E1454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902-6944-4CB1-A663-381E363F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452-A15F-410E-B9CE-9B58AD8F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63F-027C-45F6-A41C-8011DD38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109-710F-483E-89FD-644C541E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306-46D2-4FFE-A604-D42BC52E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F32-966B-4AEC-B3A0-82A9F445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7C7-C018-4B0B-B061-9EB733DF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73D-6630-47D2-BDDF-DC9C83D0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F55-293C-4BF5-9799-26CABAC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14E-A45C-4BC9-9034-4E5FD99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B2D4-1AAE-47A0-B7E9-50B2B391B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FI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ly 256KHz are process by th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polyphase filter stage to go to 1KHz resolution. We will then select subset of 256KHz to apply the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2286000"/>
          <a:ext cx="548640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548640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flipH="1">
            <a:off x="2209680" y="4419720"/>
            <a:ext cx="15264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6095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56KHz dat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95680" y="762120"/>
          <a:ext cx="4648320" cy="35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762120"/>
                    <a:ext cx="464832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181480" y="4343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oom on the bandpass filter characte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762120"/>
          <a:ext cx="449568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44956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33520" y="434340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ilter charactristic: Ideal and realistic filte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5105520"/>
            <a:ext cx="6934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B: Other filter characteristic can be investigate. Other implemenattion of the polyphase filter are already implemented with other window with a better filter response (more than 80dB without the aliasing pea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olyphase filter la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523880"/>
          <a:ext cx="548640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4864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143000" y="5638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lyphase filter gain using better filter characte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181480" y="1600200"/>
          <a:ext cx="396252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600200"/>
                    <a:ext cx="39625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48640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lyphase filter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1KHz RFI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9907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 the last experiment we compare the ideal filter case to the real filter and evaluate the impact of the RFI on a real data set (see other paresenattion for explanation on the way to proceed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48320" y="2133720"/>
          <a:ext cx="44956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4956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2133720"/>
          <a:ext cx="4648320" cy="37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648320" cy="37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5800" y="5867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ith ideal filter characteri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5867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alistic filter characteri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mpact of the RFI using  reaistic filter characteristic compare to the ideal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95280" y="1981080"/>
          <a:ext cx="681840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81840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49:15Z</dcterms:created>
  <dc:creator>Jerome Dromer</dc:creator>
  <dc:description/>
  <dc:language>en-US</dc:language>
  <cp:lastModifiedBy>Jerome Dromer</cp:lastModifiedBy>
  <dcterms:modified xsi:type="dcterms:W3CDTF">2004-02-09T09:11:43Z</dcterms:modified>
  <cp:revision>4</cp:revision>
  <dc:subject/>
  <dc:title>1KHz RFI Impact </dc:title>
</cp:coreProperties>
</file>