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E86-553B-4BBF-A3A5-E3A44AF592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E31-0873-47EB-AA46-0B07A6387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ascaded polyphase filter banks #2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ed cosine-modulated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41588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46716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687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rk is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– basic idea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75248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25780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d second-stage outputs contain no first-stage aliasing and no g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004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209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1972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8108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752480"/>
            <a:ext cx="2438640" cy="457200"/>
            <a:chOff x="1981080" y="1752480"/>
            <a:chExt cx="2438640" cy="457200"/>
          </a:xfrm>
        </p:grpSpPr>
        <p:sp>
          <p:nvSpPr>
            <p:cNvPr id="113" name=""/>
            <p:cNvSpPr/>
            <p:nvPr/>
          </p:nvSpPr>
          <p:spPr>
            <a:xfrm>
              <a:off x="2133720" y="1752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81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3400" y="320040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6576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70572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6708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-stage sub-band is oversampled, so no aliasing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600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371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905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778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9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5105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64832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464832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648320"/>
            <a:ext cx="1143000" cy="45720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5226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378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67080" y="3200400"/>
            <a:ext cx="2438640" cy="457200"/>
            <a:chOff x="4267080" y="3200400"/>
            <a:chExt cx="2438640" cy="457200"/>
          </a:xfrm>
        </p:grpSpPr>
        <p:sp>
          <p:nvSpPr>
            <p:cNvPr id="139" name=""/>
            <p:cNvSpPr/>
            <p:nvPr/>
          </p:nvSpPr>
          <p:spPr>
            <a:xfrm>
              <a:off x="441972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67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193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23623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verlap prevents 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219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ly the alias-free colored areas are used after second-stage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114800" y="1752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095520" y="20574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- schemat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838080"/>
            <a:ext cx="1371600" cy="541044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ban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621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914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838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762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9907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0666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1430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12193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2952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3716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4479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5238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479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600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523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447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6765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7524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18288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905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2057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1337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2096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21337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2096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1337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438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514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590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666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743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281952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289548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819520"/>
            <a:ext cx="121896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9718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8954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8195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30481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1240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32004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2767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33526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4290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5812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35053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733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886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9625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41148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1911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42670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41911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87692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495288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8769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49528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8769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51055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814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52578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334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410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486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6386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55627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715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5638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5562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791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5867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5943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6019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6095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6172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62485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3244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7621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8380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9144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9907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10666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1430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12193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2952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13716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14479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15238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6002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6765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17524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18288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19051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0574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2096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22860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23623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25146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25909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26668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28195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5053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48769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56386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49528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29718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7150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6576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0292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57913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37339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51055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31240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8672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51814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2004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59436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8862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2578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2767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60199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9625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33526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60958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19920" y="54100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4290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41148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54864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1633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example, the first stage is a real 8-band cosine-modulated filter bank, and the second stage is a 16-band complex cosine-modulated filter-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lter-banks are 16/14-fold oversamp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st-stage real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2" name="SweepStage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econd-stage complex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" name="SweepStage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5181480" cy="916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first-stage aliasing eliminat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6" name="chirp_cascade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eliminary conclusion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3091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caded oversampled cosine-modulated  filter bank principle seems to be successful in eliminating the first-stage sub-band 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sts are somewhat higher than those of the critically-sampled polyphas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age includes a complex FFT, as compared to a real FFT for the polyphase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odulation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sampling procedure requires a more complex buffer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11-21T16:29:00Z</dcterms:modified>
  <cp:revision>94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