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AD6-04AC-4550-A64E-4602824D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805-55CA-44CB-88E4-42FB0012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E10-59D0-4E36-A191-83C76A25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039-3A78-417F-8B2F-4392203A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2B2-509F-44E7-BBEF-41D1787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309-C3F4-410B-B119-41394A4E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FBA-A87F-4E84-8D99-196FC8E0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1F8-EF07-4E24-B8E0-0DC5853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358-251E-40E3-B257-93494473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890-7B5A-4B1E-906D-A35810A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BB4-EF56-4DB6-A5E4-32219D04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8D4-4215-4284-9CE7-0085B67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2C15-F264-4619-B32F-9CB76566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asurement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00600" cy="396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1295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2 bits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0 bits inpu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648320" cy="39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8672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umber of input bits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Influence of the quantized input signal for th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rtefact in the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7913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t is happening every P*Fs/Nfft with P =1….Nfft due to the downsampling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89840" y="60958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4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est bench experi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89840" y="609588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ing Ns input sample: 8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525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066320" y="236232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0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981080"/>
            <a:ext cx="2895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clusion: Towards the test 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quantization problem we had on the filter was only due to the small number of data point after downsampling. ( Same number of data used for D=32 was OK but since we have now D = 1024, we should increase the number of input points). The fitting algorithm didn’t have enough point to evaluate good phase and 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ake care to have at least more than 500 Points to evaluate the amplitude and phase of the sinewave out of th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artefact of the measurements are happening at fs/Nf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hange the packet size according to new set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wards filter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mprovements on the filter design is not much we still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op band: -90.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ass band ripple: -0.4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3dB -&gt; 40dB: 23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3dB -&gt; 90.5dB: 32.8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t exact sim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2 Trun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after 1st addition: 1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after adder tree: 1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wards filter ban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FT fixed -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del from Wessel (Matl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Quantization study : on the polyphase filter structure + on the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ual test  + b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ietse currently writes a document about the implementation fo the polyphase filter bank under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on comments the Jerome’s document about the theoritical background of the polyphase filter bank. It needs now some rewri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erome has started with a document explaining motivations and design method for the LOFAR test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 can already think about the oversampled polyphase filter bank…. Further discussions should start in about 3 weeks to a month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5:57:18Z</dcterms:created>
  <dc:creator>Jerome Dromer</dc:creator>
  <dc:description/>
  <dc:language>en-US</dc:language>
  <cp:lastModifiedBy>Jerome Dromer</cp:lastModifiedBy>
  <dcterms:modified xsi:type="dcterms:W3CDTF">2004-10-11T13:02:12Z</dcterms:modified>
  <cp:revision>9</cp:revision>
  <dc:subject/>
  <dc:title>Artefact in the measurements</dc:title>
</cp:coreProperties>
</file>