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C24-AB02-4EF5-941F-E819333D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281-111E-470C-BC4C-8B7C5C2B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C8F-C4E1-4D5D-95AE-CA59A7D2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A88-302B-4B27-A60E-A53079FE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80B-A783-4719-B438-2C7BAD3E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DD1-608A-4E04-94AB-62953EC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722-3EE7-4139-B2AA-8BA3394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64C-945A-4DE8-BCCC-2AC6FE80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24D-FF5A-42EB-B40F-EBD5133A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66A-107D-4D50-8406-29A7572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387-EFE9-45B5-8C82-A1B75F3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ED2-B114-42AF-9DB6-13DFCA09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49D-D05D-4505-B34A-5A26AE014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724280" y="1981080"/>
          <a:ext cx="44197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4419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1981080"/>
          <a:ext cx="479124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4791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mber of coefficients vs the Number of bi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Number of coefficients (8:8:1024) using the constraint FIR generation, - Number of bits investigated 3:16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2362320"/>
          <a:ext cx="71629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16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mber of coefficients vs the Number of bits using resampling method to generate the coefficients(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90760" cy="308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029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Number of Coefficients:  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50292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ariance will then be sm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vestigation: see how the filter behave if we used the current implementation of the filter using resampling to get high number of coefficients: 4096 (because Matlab have lack of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19320" y="1676520"/>
          <a:ext cx="678168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78168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flipV="1">
            <a:off x="4191120" y="350496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viation from sinewav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76520" y="1219320"/>
          <a:ext cx="5790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790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62120" y="5562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aks not attenuated in the bandpass but It is staying quantisation noise because below 20*log10(2^12) = -75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behavior: A/D Amplitude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havior of the quantization noise in increasing the amplitude in the filter pass-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2057400"/>
          <a:ext cx="624852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2485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behavior: A/D Amplitude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676520"/>
          <a:ext cx="5029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5029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Why amplitude is a real sinewave at the output and not at the inpu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968720" y="1676520"/>
          <a:ext cx="417528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1676520"/>
                    <a:ext cx="4175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685800"/>
            <a:ext cx="7696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inewave fitting applied on the Signal generator input/output and comparison with Wietz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Verification of the downsampled frequencies: fsin- x * fsin/down (xcorrespond to the integer divider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3505320" cy="230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3733920" cy="245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419360" cy="246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4419360" cy="261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9625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7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86200" cy="255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43400" y="1295280"/>
            <a:ext cx="4038480" cy="256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96252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419720" y="3809880"/>
            <a:ext cx="3962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8:37:36Z</dcterms:created>
  <dc:creator>Jerome Dromer</dc:creator>
  <dc:description/>
  <dc:language>en-US</dc:language>
  <cp:lastModifiedBy>Jerome Dromer</cp:lastModifiedBy>
  <dcterms:modified xsi:type="dcterms:W3CDTF">2004-02-27T14:30:17Z</dcterms:modified>
  <cp:revision>13</cp:revision>
  <dc:subject/>
  <dc:title>Number of coefficients vs the Number of bits</dc:title>
</cp:coreProperties>
</file>