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999E-D332-410D-B7E1-0CAC696E1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C8CF-1252-4A26-8F54-A650C44A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C92B-17E9-4FB5-968E-F86C6773D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0E33-003A-4A6F-91EF-420F136F1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7D9E-F57A-40D3-8146-52BC7BA1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6ED0-721F-4430-B854-712BEC42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6E2E-FB3E-42FA-8BF5-44A80B17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FA6F-6197-4F13-873E-8116C61E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D2E8-6697-41B0-8F05-C6AE5B68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6ED3-94FB-4DB9-B576-14BC8617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EEDB-599C-4E23-9027-367AA159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91AA-27E4-45CE-AA60-69B4DE23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375F-A76B-468E-A884-7665F3059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Fir 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371600"/>
          <a:ext cx="7620120" cy="498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620120" cy="49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Kaiser wind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5800" y="990720"/>
          <a:ext cx="7620120" cy="46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90720"/>
                    <a:ext cx="762012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685800" y="57150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teresting because the order can be calculated before hand: order est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Fir LS minimum coeffici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55623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1 and W2 translate the severity you give to respect the constr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371600" y="1371600"/>
          <a:ext cx="6095880" cy="40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371600"/>
                    <a:ext cx="609588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8T09:00:49Z</dcterms:created>
  <dc:creator>Jerome Dromer</dc:creator>
  <dc:description/>
  <dc:language>en-US</dc:language>
  <cp:lastModifiedBy>Jerome Dromer</cp:lastModifiedBy>
  <dcterms:modified xsi:type="dcterms:W3CDTF">2004-07-09T09:46:23Z</dcterms:modified>
  <cp:revision>1</cp:revision>
  <dc:subject/>
  <dc:title>Fir Ls</dc:title>
</cp:coreProperties>
</file>