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EAA-C051-4E2A-B05B-69D68C6A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EBA-F3DD-4698-9DA3-B1818A35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DF94-0AFA-4406-A354-C3991D67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09D9-E30D-4355-B4A3-F0EA4B61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E559-FEFA-4DFE-82E7-F617C6CF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A51-693A-4C3D-9830-65A4A762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730-AE34-4300-A1D7-73C7DC12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269-42D5-4A5C-BA7C-92000378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F2A-B1E0-417D-9CF3-4020798F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71A-85DF-4C18-84D2-A4BFAF20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C654-CAE6-456B-A192-613BE0EF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53D-057E-4875-91EF-0567CB3B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B581-A51D-4269-A376-B6D55B288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lter test bench algorithm ver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752480"/>
            <a:ext cx="792468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the data generator implanted by Wietze on the data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etze does the simulation in sending a specific frequency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nd save the output files. (19531Hz; 488281Hz; 683594Hz; '976563Hz; 1464844Hz 1953125Hz; 4882813Hz; 9765625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put fil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utput files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he multiplex of the input and the output (expected out put for the test bench) : downsampled 32 (Due to 100MB inte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4876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im : verify the quality of the sinewave fitting algorithm and evaluate the consequence of the down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tting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51814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fitting method will evaluate the amplitude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 the phase at the output downsampled of the FPGA. We can then plot the gain, phase plot of the filter in repeating the process for several frequenc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of the fitting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tests has been d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: Error defined here is the root mean squared between the data set and the sine wave reconstructed using (A, Phase) estim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then investigate the impact of the downsampling on the sine wave re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also compare the quality of the fitting in constructing a sine wave with Matlab with almost same amplitude (max input file) and random phase and compare the fitting error of the (input/output of the filter) with the same number of point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tting method qua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876920" cy="3878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4343400" cy="3886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4876920"/>
            <a:ext cx="84582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quare root error plot in case of the input/output are downsampled or not. We can see the efficiency dropping when the downsapling is applied.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We can also see that perfect case using the fitting method with a Matlab sine generation gives far better result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 the stopba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itting method quality :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op b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2590920"/>
            <a:ext cx="152424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228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put about 10MH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228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utput about 10MH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05520" y="10666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038480" y="236232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486400" y="426708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4267080"/>
            <a:ext cx="44956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We start seing the quantization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Comparison with Matlab sinewave can be use to detect quantisation noi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Is happening for very weak signal in the bandpass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What power do we expect for sky noise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0:25:40Z</dcterms:created>
  <dc:creator>Jerome Dromer</dc:creator>
  <dc:description/>
  <dc:language>en-US</dc:language>
  <cp:lastModifiedBy>Jerome Dromer</cp:lastModifiedBy>
  <dcterms:modified xsi:type="dcterms:W3CDTF">2004-02-09T13:30:45Z</dcterms:modified>
  <cp:revision>8</cp:revision>
  <dc:subject/>
  <dc:title>Filter test bench algorithm verification</dc:title>
</cp:coreProperties>
</file>