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EEE-4169-4255-95B9-9234F1D2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C3B-B2BE-4053-AF64-444FE4A1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B12-1FE5-4404-9D2A-0FCF75B3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AB3-EF95-4E17-AA5A-6A807612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9A6-369C-4218-9521-35A47FDB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8D5-F04A-41D8-A53E-FF9FA808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D06-027B-4700-ADE6-2BC33DFE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A5B0-8541-46D5-8055-B0A7FB0D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18D-78CF-4499-B3EA-3BE88241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6E8-BDE2-4D89-B40F-03A6953A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87B-5DF1-40C7-91D1-CC16B0F1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38F-633F-4F06-8E18-CCC2E34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8E17-7E2F-42C8-B360-FCEA3C116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lter test bench algorithm ver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752480"/>
            <a:ext cx="792468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the data generator implanted by Wietze on the data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etze does the simulation in sending a specific frequency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d save the output files. (19531Hz; 488281Hz; 683594Hz; '976563Hz; 1464844Hz 1953125Hz; 4882813Hz; 9765625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put fil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utput fil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he multiplex of the input and the output (expected out put for the test bench) : downsampled 32 (Due to 100MB inte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4876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im : verify the quality of the sinewave fitting algorithm and evaluate the consequence of the down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tting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51814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fitting method will evaluate the amplitude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the phase at the output downsampled of the FPGA. We can then plot the gain, phase plot of the filter in repeating the process for several frequenc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of the fitting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tests has been d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: Error defined here is the root mean squared between the data set and the sine wave reconstructed using (A, Phase) estim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then investigate the impact of the downsampling on the sine wave 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also compare the quality of the fitting in constructing a sine wave with Matlab with almost same amplitude (max input file) and random phase and compare the fitting error of the (input/output of the filter) with the same number of point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tting method qua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876920" cy="387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4343400" cy="3886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4876920"/>
            <a:ext cx="84582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quare root error plot in case of the input/output are downsampled or not. We can see the efficiency dropping when the downsapling is applied.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e can also see that perfect case using the fitting method with a Matlab sine generation gives far better result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the stopb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itting method quality :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p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2590920"/>
            <a:ext cx="152424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228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put about 10M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228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utput about 10M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05520" y="10666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236232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486400" y="426708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4267080"/>
            <a:ext cx="44956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We start seing the quantization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Comparison with Matlab sinewave can be use to detect quantisation no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Is happening for very weak signal in the bandpass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What power do we expect for sky noise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0:25:40Z</dcterms:created>
  <dc:creator>Jerome Dromer</dc:creator>
  <dc:description/>
  <dc:language>en-US</dc:language>
  <cp:lastModifiedBy>Jerome Dromer</cp:lastModifiedBy>
  <dcterms:modified xsi:type="dcterms:W3CDTF">2004-02-09T13:30:45Z</dcterms:modified>
  <cp:revision>8</cp:revision>
  <dc:subject/>
  <dc:title>Filter test bench algorithm verification</dc:title>
</cp:coreProperties>
</file>