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8EC-13F7-4760-AD53-CF64A18E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1F5-E272-4166-9E63-175CF74B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1A1-52B3-42D5-9FE1-FECE8221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F56-65AA-4D54-841B-FE51916B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B51-4ECA-4A51-BFC5-3EF5A08E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D55-6E51-4B0E-BCDF-E9D5B5F5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0CA-96D2-464B-A07E-A5373D24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306-D12A-4E01-815E-59B71AF3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98D-4CF9-4958-9BAB-0889FF8B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B71-5A65-4E5A-ADA6-36DAE7D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7B6-C879-4163-8C49-D4C9560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09A-48C8-4E94-8E6E-BC3B852B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2E5-D197-40A7-B5DE-CF969AF9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724280" y="1981080"/>
          <a:ext cx="44197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4419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1981080"/>
          <a:ext cx="479124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1080"/>
                    <a:ext cx="4791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umber of coefficients vs the Number of bi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Number of coefficients (8:8:1024) using the constraint FIR generation, - Number of bits investigated 3:16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2362320"/>
          <a:ext cx="71629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162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umber of coefficients vs the Number of bits using resampling method to generate the coefficients(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90760" cy="308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029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Number of Coefficients:  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50292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ariance will then be sm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vestigation: see how the filter behave if we used the current implementation of the filter using resampling to get high number of coefficients: 4096 (because Matlab have lack of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19320" y="1676520"/>
          <a:ext cx="678168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78168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flipV="1">
            <a:off x="4191120" y="350496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6019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viation from sinewav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76520" y="1219320"/>
          <a:ext cx="5790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790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62120" y="5562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aks not attenuated in the bandpass but It is staying quantisation noise because below 20*log10(2^12) = -75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behavior: A/D Amplitude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havior of the quantization noise in increasing the amplitude in the filter pass-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2057400"/>
          <a:ext cx="624852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62485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behavior: A/D Amplitude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676520"/>
          <a:ext cx="5029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5029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Why amplitude is a real sinewave at the output and not at the inpu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968720" y="1676520"/>
          <a:ext cx="417528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1676520"/>
                    <a:ext cx="4175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685800"/>
            <a:ext cx="7696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inewave fitting applied on the Signal generator input/output and comparison with Wietz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Verification of the downsampled frequencies: fsin- x * fsin/down (xcorrespond to the integer divider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3505320" cy="230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3733920" cy="245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419360" cy="246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4419360" cy="261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9625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07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86200" cy="255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43400" y="1295280"/>
            <a:ext cx="4038480" cy="256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96252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419720" y="3809880"/>
            <a:ext cx="3962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8:37:36Z</dcterms:created>
  <dc:creator>Jerome Dromer</dc:creator>
  <dc:description/>
  <dc:language>en-US</dc:language>
  <cp:lastModifiedBy>Jerome Dromer</cp:lastModifiedBy>
  <dcterms:modified xsi:type="dcterms:W3CDTF">2004-02-27T14:30:17Z</dcterms:modified>
  <cp:revision>13</cp:revision>
  <dc:subject/>
  <dc:title>Number of coefficients vs the Number of bits</dc:title>
</cp:coreProperties>
</file>