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FD6-6211-42A7-B027-6FC695F8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D99-5B3D-47CB-9619-6515A1D0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307-EF53-4734-BC16-98A66E92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AE1-2BAE-4BF5-A248-D570B63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697-0AFE-4E50-B0D7-25599DB9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F5D-AED3-4642-AEA4-73C4C81B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FBE-6658-41C6-8CF3-25B1B19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44-D6CD-4102-9971-CC5098D8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6D0-3656-4877-8572-10584641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A42-DF31-4F69-813D-468A33F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E18-EF93-4C4B-8A03-A9A410A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500-4183-4224-8F59-7524E57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DFD-BF0C-4867-A067-A4047FFD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FI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ly 256KHz are process by th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polyphase filter stage to go to 1KHz resolution. We will then select subset of 256KHz to apply th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2286000"/>
          <a:ext cx="548640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54864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>
            <a:off x="2209680" y="4419720"/>
            <a:ext cx="15264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95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56KHz dat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95680" y="762120"/>
          <a:ext cx="464832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762120"/>
                    <a:ext cx="464832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81480" y="4343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oom on the bandpass filter characte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762120"/>
          <a:ext cx="44956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4495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3520" y="43434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ilter charactristic: Ideal and realistic filt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105520"/>
            <a:ext cx="6934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B: Other filter characteristic can be investigate. Other implemenattion of the polyphase filter are already implemented with other window with a better filter response (more than 80dB without the aliasing pea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olyphase filter la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3880"/>
          <a:ext cx="5486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486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43000" y="5638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gain using better filter characte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1600200"/>
          <a:ext cx="396252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600200"/>
                    <a:ext cx="3962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48640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KHz RFI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 the last experiment we compare the ideal filter case to the real filter and evaluate the impact of the RFI on a real data set (see other paresenattion for explanation on the way to proceed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48320" y="2133720"/>
          <a:ext cx="44956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4956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2133720"/>
          <a:ext cx="4648320" cy="37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64832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th ideal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listic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mpact of the RFI using  reaistic filter characteristic compare to the ideal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1981080"/>
          <a:ext cx="68184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8184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49:15Z</dcterms:created>
  <dc:creator>Jerome Dromer</dc:creator>
  <dc:description/>
  <dc:language>en-US</dc:language>
  <cp:lastModifiedBy>Jerome Dromer</cp:lastModifiedBy>
  <dcterms:modified xsi:type="dcterms:W3CDTF">2004-02-09T09:11:43Z</dcterms:modified>
  <cp:revision>4</cp:revision>
  <dc:subject/>
  <dc:title>1KHz RFI Impact </dc:title>
</cp:coreProperties>
</file>