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718300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3A13-E50B-452B-9598-6FE51D372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7718-649F-493C-98FC-35812A37D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CF06-9BC8-41B6-8B22-64CB2277F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3FDC-5A1A-4AA8-A1AA-C45560786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C648-E5A9-4552-A5B6-5385EA6D4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6329-B1EB-4C75-8FE1-33F165D42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8224-3708-4591-B4E7-B3CC9FE87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68F5-201E-4F43-8FCE-0DE0B8DBF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E7E5-26A9-4849-AA7D-1AD891B9F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88C9-E492-47FE-97AC-CB25FB3B5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649F-AB70-442F-A0E8-F7D615CB9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7982-A8F5-43B7-873E-AF0009932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82AB7-06CE-43E2-91DB-93176264DD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Experiment with the signal generator with number of points increased(1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4724280" y="1981080"/>
          <a:ext cx="441972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1981080"/>
                    <a:ext cx="441972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0" y="1981080"/>
          <a:ext cx="4791240" cy="3886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981080"/>
                    <a:ext cx="479124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Number of coefficients vs the Number of bits 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1447920"/>
            <a:ext cx="754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- Number of coefficients (8:8:1024) using the constraint FIR generation, - Number of bits investigated 3:16 bi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914400" y="2362320"/>
          <a:ext cx="716292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362320"/>
                    <a:ext cx="716292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8001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Number of coefficients vs the Number of bits using resampling method to generate the coefficients(2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304920" y="1828800"/>
            <a:ext cx="4190760" cy="30862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62120" y="5029200"/>
            <a:ext cx="441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Number of Coefficients:  5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4495680" y="1828800"/>
            <a:ext cx="4114800" cy="30862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5029200" y="502920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Variance will then be smal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5486400"/>
            <a:ext cx="6934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Investigation: see how the filter behave if we used the current implementation of the filter using resampling to get high number of coefficients: 4096 (because Matlab have lack of memor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Experiment with the signal generator with number of points increased(2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1219320" y="1676520"/>
          <a:ext cx="6781680" cy="409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676520"/>
                    <a:ext cx="6781680" cy="409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 flipV="1">
            <a:off x="4191120" y="3504960"/>
            <a:ext cx="114300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00200" y="601992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Deviation from sinewave 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Experiment with the signal generator with number of points increased(3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676520" y="1219320"/>
          <a:ext cx="5790960" cy="434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219320"/>
                    <a:ext cx="579096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"/>
          <p:cNvSpPr/>
          <p:nvPr/>
        </p:nvSpPr>
        <p:spPr>
          <a:xfrm>
            <a:off x="762120" y="556272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Peaks not attenuated in the bandpass but It is staying quantisation noise because below 20*log10(2^12) = -75d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Filter behavior: A/D Amplitude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21932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Behavior of the quantization noise in increasing the amplitude in the filter pass-b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1600200" y="2057400"/>
          <a:ext cx="6248520" cy="433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057400"/>
                    <a:ext cx="6248520" cy="433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Filter behavior: A/D Amplitude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152280" y="1676520"/>
          <a:ext cx="5029200" cy="471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676520"/>
                    <a:ext cx="5029200" cy="471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228600" y="106668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- Why amplitude is a real sinewave at the output and not at the input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4968720" y="1676520"/>
          <a:ext cx="4175280" cy="4724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68720" y="1676520"/>
                    <a:ext cx="417528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Signal generator verification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14400" y="685800"/>
            <a:ext cx="769608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Sinewave fitting applied on the Signal generator input/output and comparison with Wietze fi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Verification of the downsampled frequencies: fsin- x * fsin/down (xcorrespond to the integer divider valu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3657600" cy="2286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495680" y="1905120"/>
            <a:ext cx="3505320" cy="23000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838080" y="4191120"/>
            <a:ext cx="3733920" cy="24508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4572000" y="4191120"/>
            <a:ext cx="34290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Signal generator verification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4419360" cy="24699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4572000" y="1447920"/>
            <a:ext cx="3886200" cy="24382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304920" y="3886200"/>
            <a:ext cx="4419360" cy="26161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4495680" y="3886200"/>
            <a:ext cx="3962520" cy="26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Signal generator verification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4920" y="1828800"/>
            <a:ext cx="4343400" cy="40719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648320" y="1828800"/>
            <a:ext cx="4343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Signal generator verification 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3886200" cy="25513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4343400" y="1295280"/>
            <a:ext cx="4038480" cy="25606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457200" y="3809880"/>
            <a:ext cx="3962520" cy="26002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4419720" y="3809880"/>
            <a:ext cx="396216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08:37:36Z</dcterms:created>
  <dc:creator>Jerome Dromer</dc:creator>
  <dc:description/>
  <dc:language>en-US</dc:language>
  <cp:lastModifiedBy>Jerome Dromer</cp:lastModifiedBy>
  <dcterms:modified xsi:type="dcterms:W3CDTF">2004-02-27T14:30:17Z</dcterms:modified>
  <cp:revision>13</cp:revision>
  <dc:subject/>
  <dc:title>Number of coefficients vs the Number of bits</dc:title>
</cp:coreProperties>
</file>