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229-4D01-4D45-9C8E-F5186BBA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472-D9A1-4DB2-B291-76B3528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453-12F1-4A09-BAA5-14CE3013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0B4-0D10-4A6D-BB9D-EE506E4B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DE3-39D5-4D53-A10E-1B6FB3A9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F63-FFD7-4AC0-A61D-EE9A8F0C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6A5-4193-4A61-B5BA-1A09069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425-E923-4062-B497-B18C9D19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EA6-2F07-4153-805C-2444A6B4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27C-F2A0-424D-9CDB-386C4F2B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0D5-CD5F-4D5A-A473-50E934A1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1B3-6794-41DB-BF31-931B03D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56AC-3C0A-4B84-9F66-9472998693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e specification of the main processing have changed: 254 -&gt; 1024 channels (200m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erefore we can : 4K -&gt; 16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blemat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hat are the filter characteristic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w to generate 16K filter windows ?? the max for Matlab is 5K (5K*5K LSQ method-&gt; memory probl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ify the ModelSim bench result and redo to check the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tinue writ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eoretical background of digital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ilter design 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rdware implementation verification: Test ben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ify the result on the test bench itself: Only a subbad subset because (40MHz AD and not enough processing power on the current demo bo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hink about a good way to test on the new board delivered in the end of septe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characteri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Specifications defined and motivated by: A.G, JB, A.J.B, J.D considering Calibration, RFI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stakehol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BRipple: 0.5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BRipple: 91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nsition Band: 1 subband ( 160/195K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creasing stop band to attenuate far away in the spectrum RFI folding)A document is on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he filter design method fircls1 LSQ based methods gives good result for the basic 2-4K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 interpolation should be applied in order to realize 4K -&gt; 16K coefficient generation. (Add 16K coefficients within the 4K coefficients). Two mthod are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- Classic: 0 padding + FIR (long if good filter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qua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- FFT : creation of the bandwidth in padding zeros directly in the frequency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requency domain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4419720" cy="594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4800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ime domain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FT Window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FT method a lot faster than the classic interpolation and gives far better result. The method can be improved in using different windows: trade off are then done on the window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84582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ndow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334120" cy="563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86280" y="1219320"/>
            <a:ext cx="4257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odelSim VHDL verificatio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: 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00600" y="1905120"/>
          <a:ext cx="4343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05120"/>
                    <a:ext cx="4343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4280" y="1905120"/>
          <a:ext cx="4908600" cy="46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80" y="1905120"/>
                    <a:ext cx="49086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odelSim VHDL verificatio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: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95280" y="1981080"/>
          <a:ext cx="632484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32484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3:01:19Z</dcterms:created>
  <dc:creator>Jerome Dromer</dc:creator>
  <dc:description/>
  <dc:language>en-US</dc:language>
  <cp:lastModifiedBy>Jerome Dromer</cp:lastModifiedBy>
  <dcterms:modified xsi:type="dcterms:W3CDTF">2004-09-17T15:02:31Z</dcterms:modified>
  <cp:revision>16</cp:revision>
  <dc:subject/>
  <dc:title>Window  comparison FFT method</dc:title>
</cp:coreProperties>
</file>