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512-2A61-49F4-847E-C39C8846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F40-F223-4699-A41A-114C154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519-4900-4A09-B1A3-57D06528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170-A1F1-4BE2-9A2E-A5232DD5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E24-B349-4C55-B0A7-60D9DAC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1FC-AD8D-44E2-952E-3F7A9B65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F8C-3A07-42E1-AD9E-5212BCC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0BF-536B-4CDC-9202-C065297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282-3787-402C-ADF1-9BA8CC48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FC-210E-4CED-AC21-1DC6093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6C1-46C7-4F84-BFCD-AED714C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6D1-28EF-4D4B-BCD8-4E7C7FA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614-64AE-486C-AF66-424749068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study :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ind the filter specification, requir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te the unwanted distortion, perturbation once the design of the filter is implemented on a real acquisition chain(ADC non linearity, quantization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llation on Theta, ITS se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ter procedure invest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209680"/>
            <a:ext cx="213336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14800"/>
            <a:ext cx="2133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4495680"/>
            <a:ext cx="21337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3962520"/>
            <a:ext cx="21333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219320"/>
            <a:ext cx="213336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514240" y="5181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257440" y="48769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5812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35049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743200" y="2133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 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91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23623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Implementation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fil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362320"/>
            <a:ext cx="236232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981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ta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+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riment : FIR Low P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structu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 Ba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p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590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59092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971800"/>
            <a:ext cx="9903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429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505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ression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7432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66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fficient for the fil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ben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2209680"/>
            <a:ext cx="13716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9144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438280"/>
            <a:ext cx="533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191120"/>
            <a:ext cx="838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3886200"/>
            <a:ext cx="16002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724280"/>
            <a:ext cx="3808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19112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1896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905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C : 80Ms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666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666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150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0384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   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5257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PI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2900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3124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 link 100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Wra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724280"/>
            <a:ext cx="13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Unwrap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8862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is to build the test bench. We will use a very simple 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set u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 : Coefficient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its for the co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 : 0.5dB, Att : -70dB, Bs, 128kh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set u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 : Coefficient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eeping real sinwave every kH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valuate the amplitude of the transfer function of the implemented filter and compare with the theoretical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ine fitting on the input and output and phase delay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gmatic approach which allow us a good comprehension of the sign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ing slowly from requirements to u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valuating difference between theory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xperiment will allow us  implement and verify the test 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48:19Z</dcterms:created>
  <dc:creator>Jerome Dromer</dc:creator>
  <dc:description/>
  <dc:language>en-US</dc:language>
  <cp:lastModifiedBy>Jerome Dromer</cp:lastModifiedBy>
  <dcterms:modified xsi:type="dcterms:W3CDTF">2003-09-17T14:44:21Z</dcterms:modified>
  <cp:revision>6</cp:revision>
  <dc:subject/>
  <dc:title>Filter procedure investigation</dc:title>
</cp:coreProperties>
</file>