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-Se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824-9C43-4F96-90A3-A1C409D881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LOGO%20PMS" descr=""/>
          <p:cNvPicPr/>
          <p:nvPr/>
        </p:nvPicPr>
        <p:blipFill>
          <a:blip r:embed="rId2"/>
          <a:stretch/>
        </p:blipFill>
        <p:spPr>
          <a:xfrm>
            <a:off x="324000" y="101520"/>
            <a:ext cx="1558800" cy="37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-Se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844-A9AB-4F55-9A9F-C1B3833846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requirements and design issue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3600" y="3919680"/>
            <a:ext cx="64040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response short-coming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2364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totype FIR filter, the transition band is far to wide (40 kHz instead of 3 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band signals, from the (wide) transition bands, alias into the sub-bands because of decimation; alternatively, by making the bands narrower, gaps occur between sub-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781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How to get a smaller transition band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4557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band of a FIR filter can be reduced, without increase of the computational complexity, by the use of IFIR methods (Interpolated F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 the frequency response requirements by a factor K (multiply pass-band cut-off frequency and transition-band by factor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FIR filter H(z) meeting these relaxe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 the frequency band (construct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) by adding K-1 zeros between successive impulse response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K-1 resulting images of the response around frequencies n*Fs/K by a second filter G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ter resulting from cascading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G(z) meets th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Interpolated FI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09480" y="838080"/>
            <a:ext cx="2210040" cy="1295640"/>
            <a:chOff x="609480" y="838080"/>
            <a:chExt cx="2210040" cy="1295640"/>
          </a:xfrm>
        </p:grpSpPr>
        <p:sp>
          <p:nvSpPr>
            <p:cNvPr id="267" name=""/>
            <p:cNvSpPr/>
            <p:nvPr/>
          </p:nvSpPr>
          <p:spPr>
            <a:xfrm>
              <a:off x="609480" y="213372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80" y="838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480" y="990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4400" y="990720"/>
              <a:ext cx="152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724280" y="2133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990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9907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876920" y="2590560"/>
            <a:ext cx="1676160" cy="761760"/>
            <a:chOff x="4876920" y="2590560"/>
            <a:chExt cx="1676160" cy="761760"/>
          </a:xfrm>
        </p:grpSpPr>
        <p:sp>
          <p:nvSpPr>
            <p:cNvPr id="276" name=""/>
            <p:cNvSpPr/>
            <p:nvPr/>
          </p:nvSpPr>
          <p:spPr>
            <a:xfrm>
              <a:off x="4876920" y="3225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715000" y="2590560"/>
              <a:ext cx="837720" cy="761760"/>
              <a:chOff x="5715000" y="2590560"/>
              <a:chExt cx="837720" cy="76176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5715000" y="2590560"/>
                <a:ext cx="0" cy="63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790600" y="271800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866920" y="290808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943240" y="309888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6095520" y="322560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6019200" y="322560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6171840" y="322560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6247800" y="322560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6324120" y="316224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6400440" y="309888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6476400" y="316224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52720" y="3225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V="1">
              <a:off x="5638680" y="2718000"/>
              <a:ext cx="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562360" y="290808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486400" y="309888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333760" y="322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410080" y="322560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257800" y="322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181480" y="322560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105160" y="31622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029200" y="309888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952880" y="31622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6920" y="3225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48120" y="1600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1143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tch K=4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52280" y="2819520"/>
            <a:ext cx="6705360" cy="1065960"/>
            <a:chOff x="152280" y="2819520"/>
            <a:chExt cx="6705360" cy="1065960"/>
          </a:xfrm>
        </p:grpSpPr>
        <p:grpSp>
          <p:nvGrpSpPr>
            <p:cNvPr id="304" name=""/>
            <p:cNvGrpSpPr/>
            <p:nvPr/>
          </p:nvGrpSpPr>
          <p:grpSpPr>
            <a:xfrm>
              <a:off x="152280" y="2819520"/>
              <a:ext cx="6704640" cy="1065960"/>
              <a:chOff x="152280" y="2819520"/>
              <a:chExt cx="6704640" cy="1065960"/>
            </a:xfrm>
          </p:grpSpPr>
          <p:sp>
            <p:nvSpPr>
              <p:cNvPr id="305" name=""/>
              <p:cNvSpPr/>
              <p:nvPr/>
            </p:nvSpPr>
            <p:spPr>
              <a:xfrm>
                <a:off x="152280" y="3708360"/>
                <a:ext cx="670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3505320" y="2819520"/>
                <a:ext cx="3350520" cy="1065600"/>
                <a:chOff x="3505320" y="2819520"/>
                <a:chExt cx="3350520" cy="1065600"/>
              </a:xfrm>
            </p:grpSpPr>
            <p:sp>
              <p:nvSpPr>
                <p:cNvPr id="307" name=""/>
                <p:cNvSpPr/>
                <p:nvPr/>
              </p:nvSpPr>
              <p:spPr>
                <a:xfrm flipV="1">
                  <a:off x="3505320" y="2819520"/>
                  <a:ext cx="0" cy="88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3808800" y="2997360"/>
                  <a:ext cx="0" cy="71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4114080" y="3263400"/>
                  <a:ext cx="0" cy="44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4419000" y="353016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027760" y="370764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4722840" y="370764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5333040" y="370764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636520" y="370764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5941800" y="361872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6246720" y="353016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6550560" y="361872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855840" y="3708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 flipV="1">
                <a:off x="3200040" y="2997360"/>
                <a:ext cx="0" cy="71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894760" y="3264120"/>
                <a:ext cx="0" cy="44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590920" y="353052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980360" y="370800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285640" y="3708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1676880" y="370800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1371600" y="3708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066320" y="36190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62480" y="353052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57200" y="36190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2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57200" y="3708360"/>
              <a:ext cx="304560" cy="0"/>
              <a:chOff x="457200" y="3708360"/>
              <a:chExt cx="304560" cy="0"/>
            </a:xfrm>
          </p:grpSpPr>
          <p:sp>
            <p:nvSpPr>
              <p:cNvPr id="331" name=""/>
              <p:cNvSpPr/>
              <p:nvPr/>
            </p:nvSpPr>
            <p:spPr>
              <a:xfrm>
                <a:off x="457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3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3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94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858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5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61760" y="3708360"/>
              <a:ext cx="304560" cy="0"/>
              <a:chOff x="761760" y="3708360"/>
              <a:chExt cx="304560" cy="0"/>
            </a:xfrm>
          </p:grpSpPr>
          <p:sp>
            <p:nvSpPr>
              <p:cNvPr id="338" name=""/>
              <p:cNvSpPr/>
              <p:nvPr/>
            </p:nvSpPr>
            <p:spPr>
              <a:xfrm>
                <a:off x="761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77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377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14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90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90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066680" y="3708360"/>
              <a:ext cx="304560" cy="0"/>
              <a:chOff x="1066680" y="3708360"/>
              <a:chExt cx="304560" cy="0"/>
            </a:xfrm>
          </p:grpSpPr>
          <p:sp>
            <p:nvSpPr>
              <p:cNvPr id="345" name=""/>
              <p:cNvSpPr/>
              <p:nvPr/>
            </p:nvSpPr>
            <p:spPr>
              <a:xfrm>
                <a:off x="1066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1426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142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18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295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95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371600" y="3708360"/>
              <a:ext cx="304560" cy="0"/>
              <a:chOff x="1371600" y="3708360"/>
              <a:chExt cx="304560" cy="0"/>
            </a:xfrm>
          </p:grpSpPr>
          <p:sp>
            <p:nvSpPr>
              <p:cNvPr id="352" name=""/>
              <p:cNvSpPr/>
              <p:nvPr/>
            </p:nvSpPr>
            <p:spPr>
              <a:xfrm>
                <a:off x="1371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47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47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238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002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0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1676160" y="3708360"/>
              <a:ext cx="304560" cy="0"/>
              <a:chOff x="1676160" y="3708360"/>
              <a:chExt cx="304560" cy="0"/>
            </a:xfrm>
          </p:grpSpPr>
          <p:sp>
            <p:nvSpPr>
              <p:cNvPr id="359" name=""/>
              <p:cNvSpPr/>
              <p:nvPr/>
            </p:nvSpPr>
            <p:spPr>
              <a:xfrm>
                <a:off x="1676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521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521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28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04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04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981080" y="3708360"/>
              <a:ext cx="304560" cy="0"/>
              <a:chOff x="1981080" y="3708360"/>
              <a:chExt cx="304560" cy="0"/>
            </a:xfrm>
          </p:grpSpPr>
          <p:sp>
            <p:nvSpPr>
              <p:cNvPr id="366" name=""/>
              <p:cNvSpPr/>
              <p:nvPr/>
            </p:nvSpPr>
            <p:spPr>
              <a:xfrm>
                <a:off x="1981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570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57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133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096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09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286000" y="3708360"/>
              <a:ext cx="304560" cy="0"/>
              <a:chOff x="2286000" y="3708360"/>
              <a:chExt cx="304560" cy="0"/>
            </a:xfrm>
          </p:grpSpPr>
          <p:sp>
            <p:nvSpPr>
              <p:cNvPr id="373" name=""/>
              <p:cNvSpPr/>
              <p:nvPr/>
            </p:nvSpPr>
            <p:spPr>
              <a:xfrm>
                <a:off x="22860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3619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361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4382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146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14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590560" y="3708360"/>
              <a:ext cx="304560" cy="0"/>
              <a:chOff x="2590560" y="3708360"/>
              <a:chExt cx="304560" cy="0"/>
            </a:xfrm>
          </p:grpSpPr>
          <p:sp>
            <p:nvSpPr>
              <p:cNvPr id="380" name=""/>
              <p:cNvSpPr/>
              <p:nvPr/>
            </p:nvSpPr>
            <p:spPr>
              <a:xfrm>
                <a:off x="25905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665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6665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428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19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19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95480" y="3708360"/>
              <a:ext cx="304560" cy="0"/>
              <a:chOff x="2895480" y="3708360"/>
              <a:chExt cx="304560" cy="0"/>
            </a:xfrm>
          </p:grpSpPr>
          <p:sp>
            <p:nvSpPr>
              <p:cNvPr id="387" name=""/>
              <p:cNvSpPr/>
              <p:nvPr/>
            </p:nvSpPr>
            <p:spPr>
              <a:xfrm>
                <a:off x="28954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714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1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77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240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24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200400" y="3708360"/>
              <a:ext cx="304560" cy="0"/>
              <a:chOff x="3200400" y="3708360"/>
              <a:chExt cx="304560" cy="0"/>
            </a:xfrm>
          </p:grpSpPr>
          <p:sp>
            <p:nvSpPr>
              <p:cNvPr id="394" name=""/>
              <p:cNvSpPr/>
              <p:nvPr/>
            </p:nvSpPr>
            <p:spPr>
              <a:xfrm>
                <a:off x="32004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76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76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526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290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290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504960" y="3708360"/>
              <a:ext cx="304560" cy="0"/>
              <a:chOff x="3504960" y="3708360"/>
              <a:chExt cx="304560" cy="0"/>
            </a:xfrm>
          </p:grpSpPr>
          <p:sp>
            <p:nvSpPr>
              <p:cNvPr id="401" name=""/>
              <p:cNvSpPr/>
              <p:nvPr/>
            </p:nvSpPr>
            <p:spPr>
              <a:xfrm>
                <a:off x="35049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5809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809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657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3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335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809880" y="3708360"/>
              <a:ext cx="304560" cy="0"/>
              <a:chOff x="3809880" y="3708360"/>
              <a:chExt cx="304560" cy="0"/>
            </a:xfrm>
          </p:grpSpPr>
          <p:sp>
            <p:nvSpPr>
              <p:cNvPr id="408" name=""/>
              <p:cNvSpPr/>
              <p:nvPr/>
            </p:nvSpPr>
            <p:spPr>
              <a:xfrm>
                <a:off x="3809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58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858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2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384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384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114800" y="3708360"/>
              <a:ext cx="304560" cy="0"/>
              <a:chOff x="4114800" y="3708360"/>
              <a:chExt cx="304560" cy="0"/>
            </a:xfrm>
          </p:grpSpPr>
          <p:sp>
            <p:nvSpPr>
              <p:cNvPr id="415" name=""/>
              <p:cNvSpPr/>
              <p:nvPr/>
            </p:nvSpPr>
            <p:spPr>
              <a:xfrm>
                <a:off x="4114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90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1907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670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434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434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419360" y="3708360"/>
              <a:ext cx="304560" cy="0"/>
              <a:chOff x="4419360" y="3708360"/>
              <a:chExt cx="304560" cy="0"/>
            </a:xfrm>
          </p:grpSpPr>
          <p:sp>
            <p:nvSpPr>
              <p:cNvPr id="422" name=""/>
              <p:cNvSpPr/>
              <p:nvPr/>
            </p:nvSpPr>
            <p:spPr>
              <a:xfrm>
                <a:off x="4419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953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953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71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479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479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724280" y="3708360"/>
              <a:ext cx="304560" cy="0"/>
              <a:chOff x="4724280" y="3708360"/>
              <a:chExt cx="304560" cy="0"/>
            </a:xfrm>
          </p:grpSpPr>
          <p:sp>
            <p:nvSpPr>
              <p:cNvPr id="429" name=""/>
              <p:cNvSpPr/>
              <p:nvPr/>
            </p:nvSpPr>
            <p:spPr>
              <a:xfrm>
                <a:off x="4724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002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00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76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528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52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029200" y="3708360"/>
              <a:ext cx="304560" cy="0"/>
              <a:chOff x="5029200" y="3708360"/>
              <a:chExt cx="304560" cy="0"/>
            </a:xfrm>
          </p:grpSpPr>
          <p:sp>
            <p:nvSpPr>
              <p:cNvPr id="436" name=""/>
              <p:cNvSpPr/>
              <p:nvPr/>
            </p:nvSpPr>
            <p:spPr>
              <a:xfrm>
                <a:off x="5029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105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05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814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2578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257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333760" y="3708360"/>
              <a:ext cx="304560" cy="0"/>
              <a:chOff x="5333760" y="3708360"/>
              <a:chExt cx="304560" cy="0"/>
            </a:xfrm>
          </p:grpSpPr>
          <p:sp>
            <p:nvSpPr>
              <p:cNvPr id="443" name=""/>
              <p:cNvSpPr/>
              <p:nvPr/>
            </p:nvSpPr>
            <p:spPr>
              <a:xfrm>
                <a:off x="5333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4097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097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86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62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562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638680" y="3708360"/>
              <a:ext cx="304560" cy="0"/>
              <a:chOff x="5638680" y="3708360"/>
              <a:chExt cx="304560" cy="0"/>
            </a:xfrm>
          </p:grpSpPr>
          <p:sp>
            <p:nvSpPr>
              <p:cNvPr id="450" name=""/>
              <p:cNvSpPr/>
              <p:nvPr/>
            </p:nvSpPr>
            <p:spPr>
              <a:xfrm>
                <a:off x="5638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46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14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90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7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67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943600" y="3708360"/>
              <a:ext cx="304560" cy="0"/>
              <a:chOff x="5943600" y="3708360"/>
              <a:chExt cx="304560" cy="0"/>
            </a:xfrm>
          </p:grpSpPr>
          <p:sp>
            <p:nvSpPr>
              <p:cNvPr id="457" name=""/>
              <p:cNvSpPr/>
              <p:nvPr/>
            </p:nvSpPr>
            <p:spPr>
              <a:xfrm>
                <a:off x="5943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19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19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958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722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72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248160" y="3708360"/>
              <a:ext cx="304560" cy="0"/>
              <a:chOff x="6248160" y="3708360"/>
              <a:chExt cx="304560" cy="0"/>
            </a:xfrm>
          </p:grpSpPr>
          <p:sp>
            <p:nvSpPr>
              <p:cNvPr id="464" name=""/>
              <p:cNvSpPr/>
              <p:nvPr/>
            </p:nvSpPr>
            <p:spPr>
              <a:xfrm>
                <a:off x="6248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241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241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00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76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76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6553080" y="3708360"/>
              <a:ext cx="304560" cy="0"/>
              <a:chOff x="6553080" y="3708360"/>
              <a:chExt cx="304560" cy="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290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29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816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781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52280" y="3708360"/>
              <a:ext cx="304560" cy="0"/>
              <a:chOff x="152280" y="3708360"/>
              <a:chExt cx="304560" cy="0"/>
            </a:xfrm>
          </p:grpSpPr>
          <p:sp>
            <p:nvSpPr>
              <p:cNvPr id="478" name=""/>
              <p:cNvSpPr/>
              <p:nvPr/>
            </p:nvSpPr>
            <p:spPr>
              <a:xfrm>
                <a:off x="152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82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28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04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08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0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4" name=""/>
          <p:cNvSpPr/>
          <p:nvPr/>
        </p:nvSpPr>
        <p:spPr>
          <a:xfrm>
            <a:off x="56386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2209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IR H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038480" y="28954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990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1143000"/>
            <a:ext cx="1219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p-b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9907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2133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ition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48769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95480" y="495288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4038480"/>
            <a:ext cx="5105160" cy="914400"/>
            <a:chOff x="533520" y="4038480"/>
            <a:chExt cx="5105160" cy="914400"/>
          </a:xfrm>
        </p:grpSpPr>
        <p:sp>
          <p:nvSpPr>
            <p:cNvPr id="497" name=""/>
            <p:cNvSpPr/>
            <p:nvPr/>
          </p:nvSpPr>
          <p:spPr>
            <a:xfrm>
              <a:off x="533520" y="495288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866160" y="4038480"/>
              <a:ext cx="2330280" cy="914400"/>
              <a:chOff x="866160" y="4038480"/>
              <a:chExt cx="2330280" cy="91440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1698120" y="4038480"/>
                <a:ext cx="665640" cy="914400"/>
                <a:chOff x="1698120" y="4038480"/>
                <a:chExt cx="665640" cy="9144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69848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03112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031120" y="4145760"/>
                  <a:ext cx="22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253240" y="4145760"/>
                  <a:ext cx="11052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3112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1809000" y="4145760"/>
                  <a:ext cx="22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1698120" y="4145760"/>
                  <a:ext cx="11052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2863800" y="4038480"/>
                <a:ext cx="332640" cy="914400"/>
                <a:chOff x="2863800" y="4038480"/>
                <a:chExt cx="332640" cy="9144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2863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19644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19644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2974320" y="4145760"/>
                  <a:ext cx="22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2863800" y="4145760"/>
                  <a:ext cx="11088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866160" y="4038480"/>
                <a:ext cx="332640" cy="914400"/>
                <a:chOff x="866160" y="4038480"/>
                <a:chExt cx="332640" cy="9144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198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6616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6616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66880" y="4145760"/>
                  <a:ext cx="22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087920" y="4145760"/>
                  <a:ext cx="11088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9" name=""/>
            <p:cNvGrpSpPr/>
            <p:nvPr/>
          </p:nvGrpSpPr>
          <p:grpSpPr>
            <a:xfrm>
              <a:off x="3197160" y="4038480"/>
              <a:ext cx="2330280" cy="914400"/>
              <a:chOff x="3197160" y="4038480"/>
              <a:chExt cx="2330280" cy="91440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4029120" y="4038480"/>
                <a:ext cx="665640" cy="914400"/>
                <a:chOff x="4029120" y="4038480"/>
                <a:chExt cx="665640" cy="9144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02948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36212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362120" y="4145760"/>
                  <a:ext cx="22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584240" y="4145760"/>
                  <a:ext cx="11052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36212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>
                  <a:off x="4140000" y="4145760"/>
                  <a:ext cx="22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4029120" y="4145760"/>
                  <a:ext cx="11052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194800" y="4038480"/>
                <a:ext cx="332640" cy="914400"/>
                <a:chOff x="5194800" y="4038480"/>
                <a:chExt cx="332640" cy="9144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194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52744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52744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5305320" y="4145760"/>
                  <a:ext cx="22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5194800" y="4145760"/>
                  <a:ext cx="11088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3197160" y="4038480"/>
                <a:ext cx="332640" cy="914400"/>
                <a:chOff x="3197160" y="4038480"/>
                <a:chExt cx="332640" cy="9144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529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19716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19716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197880" y="4145760"/>
                  <a:ext cx="22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418920" y="4145760"/>
                  <a:ext cx="11088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0" name=""/>
          <p:cNvSpPr/>
          <p:nvPr/>
        </p:nvSpPr>
        <p:spPr>
          <a:xfrm>
            <a:off x="5410080" y="4876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520" y="6248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66880" y="5334120"/>
            <a:ext cx="333720" cy="914400"/>
            <a:chOff x="866880" y="5334120"/>
            <a:chExt cx="333720" cy="914400"/>
          </a:xfrm>
        </p:grpSpPr>
        <p:sp>
          <p:nvSpPr>
            <p:cNvPr id="543" name=""/>
            <p:cNvSpPr/>
            <p:nvPr/>
          </p:nvSpPr>
          <p:spPr>
            <a:xfrm>
              <a:off x="1200240" y="5871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6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6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67240" y="5441400"/>
              <a:ext cx="22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89360" y="5441400"/>
              <a:ext cx="111240" cy="80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194080" y="5334120"/>
            <a:ext cx="333720" cy="914400"/>
            <a:chOff x="5194080" y="5334120"/>
            <a:chExt cx="333720" cy="914400"/>
          </a:xfrm>
        </p:grpSpPr>
        <p:sp>
          <p:nvSpPr>
            <p:cNvPr id="549" name=""/>
            <p:cNvSpPr/>
            <p:nvPr/>
          </p:nvSpPr>
          <p:spPr>
            <a:xfrm>
              <a:off x="5194440" y="5871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27800" y="5334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27800" y="5334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305320" y="544140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5194080" y="5441400"/>
              <a:ext cx="111240" cy="806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867280" y="41911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transfer function of 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interpolation FIR 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838080" y="4102200"/>
            <a:ext cx="2362320" cy="852480"/>
            <a:chOff x="838080" y="4102200"/>
            <a:chExt cx="2362320" cy="852480"/>
          </a:xfrm>
        </p:grpSpPr>
        <p:sp>
          <p:nvSpPr>
            <p:cNvPr id="556" name=""/>
            <p:cNvSpPr/>
            <p:nvPr/>
          </p:nvSpPr>
          <p:spPr>
            <a:xfrm>
              <a:off x="838080" y="4102200"/>
              <a:ext cx="838440" cy="850680"/>
            </a:xfrm>
            <a:custGeom>
              <a:avLst/>
              <a:gdLst/>
              <a:ahLst/>
              <a:rect l="l" t="t" r="r" b="b"/>
              <a:pathLst>
                <a:path w="432" h="680">
                  <a:moveTo>
                    <a:pt x="0" y="8"/>
                  </a:moveTo>
                  <a:cubicBezTo>
                    <a:pt x="56" y="8"/>
                    <a:pt x="112" y="8"/>
                    <a:pt x="144" y="8"/>
                  </a:cubicBezTo>
                  <a:cubicBezTo>
                    <a:pt x="176" y="8"/>
                    <a:pt x="176" y="0"/>
                    <a:pt x="192" y="8"/>
                  </a:cubicBezTo>
                  <a:cubicBezTo>
                    <a:pt x="208" y="16"/>
                    <a:pt x="224" y="32"/>
                    <a:pt x="240" y="56"/>
                  </a:cubicBezTo>
                  <a:cubicBezTo>
                    <a:pt x="256" y="80"/>
                    <a:pt x="272" y="112"/>
                    <a:pt x="288" y="152"/>
                  </a:cubicBezTo>
                  <a:cubicBezTo>
                    <a:pt x="304" y="192"/>
                    <a:pt x="320" y="232"/>
                    <a:pt x="336" y="296"/>
                  </a:cubicBezTo>
                  <a:cubicBezTo>
                    <a:pt x="352" y="360"/>
                    <a:pt x="368" y="472"/>
                    <a:pt x="384" y="536"/>
                  </a:cubicBezTo>
                  <a:cubicBezTo>
                    <a:pt x="400" y="600"/>
                    <a:pt x="416" y="656"/>
                    <a:pt x="432" y="68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76520" y="4952880"/>
              <a:ext cx="1523880" cy="1800"/>
            </a:xfrm>
            <a:custGeom>
              <a:avLst/>
              <a:gdLst/>
              <a:ahLst/>
              <a:rect l="l" t="t" r="r" b="b"/>
              <a:pathLst>
                <a:path w="960" h="1">
                  <a:moveTo>
                    <a:pt x="0" y="0"/>
                  </a:moveTo>
                  <a:cubicBezTo>
                    <a:pt x="400" y="0"/>
                    <a:pt x="800" y="0"/>
                    <a:pt x="960" y="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200400" y="4100400"/>
            <a:ext cx="2362320" cy="852480"/>
            <a:chOff x="3200400" y="4100400"/>
            <a:chExt cx="2362320" cy="852480"/>
          </a:xfrm>
        </p:grpSpPr>
        <p:sp>
          <p:nvSpPr>
            <p:cNvPr id="559" name=""/>
            <p:cNvSpPr/>
            <p:nvPr/>
          </p:nvSpPr>
          <p:spPr>
            <a:xfrm flipH="1">
              <a:off x="4723920" y="4100400"/>
              <a:ext cx="838440" cy="850680"/>
            </a:xfrm>
            <a:custGeom>
              <a:avLst/>
              <a:gdLst/>
              <a:ahLst/>
              <a:rect l="l" t="t" r="r" b="b"/>
              <a:pathLst>
                <a:path w="432" h="680">
                  <a:moveTo>
                    <a:pt x="0" y="8"/>
                  </a:moveTo>
                  <a:cubicBezTo>
                    <a:pt x="56" y="8"/>
                    <a:pt x="112" y="8"/>
                    <a:pt x="144" y="8"/>
                  </a:cubicBezTo>
                  <a:cubicBezTo>
                    <a:pt x="176" y="8"/>
                    <a:pt x="176" y="0"/>
                    <a:pt x="192" y="8"/>
                  </a:cubicBezTo>
                  <a:cubicBezTo>
                    <a:pt x="208" y="16"/>
                    <a:pt x="224" y="32"/>
                    <a:pt x="240" y="56"/>
                  </a:cubicBezTo>
                  <a:cubicBezTo>
                    <a:pt x="256" y="80"/>
                    <a:pt x="272" y="112"/>
                    <a:pt x="288" y="152"/>
                  </a:cubicBezTo>
                  <a:cubicBezTo>
                    <a:pt x="304" y="192"/>
                    <a:pt x="320" y="232"/>
                    <a:pt x="336" y="296"/>
                  </a:cubicBezTo>
                  <a:cubicBezTo>
                    <a:pt x="352" y="360"/>
                    <a:pt x="368" y="472"/>
                    <a:pt x="384" y="536"/>
                  </a:cubicBezTo>
                  <a:cubicBezTo>
                    <a:pt x="400" y="600"/>
                    <a:pt x="416" y="656"/>
                    <a:pt x="432" y="680"/>
                  </a:cubicBezTo>
                </a:path>
              </a:pathLst>
            </a:custGeom>
            <a:noFill/>
            <a:ln cap="rnd" w="2844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200040" y="4951080"/>
              <a:ext cx="1523880" cy="1800"/>
            </a:xfrm>
            <a:custGeom>
              <a:avLst/>
              <a:gdLst/>
              <a:ahLst/>
              <a:rect l="l" t="t" r="r" b="b"/>
              <a:pathLst>
                <a:path w="960" h="1">
                  <a:moveTo>
                    <a:pt x="0" y="0"/>
                  </a:moveTo>
                  <a:cubicBezTo>
                    <a:pt x="400" y="0"/>
                    <a:pt x="800" y="0"/>
                    <a:pt x="960" y="0"/>
                  </a:cubicBezTo>
                </a:path>
              </a:pathLst>
            </a:custGeom>
            <a:noFill/>
            <a:ln cap="rnd" w="2844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5410080" y="61722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00400" y="5410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43600" y="54100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transfer function of cascade 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19320" y="3962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743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3886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Interpolated FIR design of prototype filte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4933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current ADD requirements in mind, the prototype FIR low-pass filter was designed using the IFI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ion factor K=32 wa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equirements were met except temporal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with 2959 non-zero ta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(z) with 188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-form realization of total filter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G(z) in 1 section would have 94844 ta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oral depth = 94844 / 64e6 = 1.5 msec (&gt; 0.2 m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cascaded sections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and G(z) result in 2959+188=3147 non-zero taps, so arithmetic complexity is reduced by a factor 94844/314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30 as compared to single-section direct-form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IFIR implementation of prototype (zoomed in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 2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 3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IFIR implementation of prototyp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Where do we stand now?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81880" cy="571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ur problem solved now? Noooo…  not by a long 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nclude this IFIR solution in a polyphase-like filter-band structure to reduce complexity? We don’t want to implement 128 separate filt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z) with a total of 128 x 3147 = 402816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we find a polyphase-like structure which eliminates the sub-band alias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be the solution can be found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ine-modulated FIR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MF (Quadrature Mirror Filter)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seudo-QM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M approach (Frequency-Response Masking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 lot of (recently appeared) literature to be found on this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uld we resort to IIR filters (and give up linear phas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requirements 1</a:t>
            </a:r>
            <a:r>
              <a:rPr b="1" lang="en-US" sz="28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905120"/>
          <a:ext cx="8382240" cy="4425840"/>
        </p:xfrm>
        <a:graphic>
          <a:graphicData uri="http://schemas.openxmlformats.org/drawingml/2006/table">
            <a:tbl>
              <a:tblPr/>
              <a:tblGrid>
                <a:gridCol w="2819520"/>
                <a:gridCol w="1219320"/>
                <a:gridCol w="3124080"/>
                <a:gridCol w="121932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-band atte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 filter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-band ri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0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ub-b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-band ri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window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c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3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ilter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dep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tion factor (critical sampl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/ 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920" y="914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1" lang="en-US" sz="2400" spc="-1" strike="noStrike">
                <a:solidFill>
                  <a:srgbClr val="000000"/>
                </a:solidFill>
                <a:latin typeface="ComicSansMS,Bold"/>
              </a:rPr>
              <a:t>LOFAR Architectural Design Document</a:t>
            </a:r>
            <a:r>
              <a:rPr b="0" lang="en-US" sz="2400" spc="-1" strike="noStrike">
                <a:solidFill>
                  <a:srgbClr val="000000"/>
                </a:solidFill>
                <a:latin typeface="ComicSansMS,Bold"/>
              </a:rPr>
              <a:t>, Rev.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6858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ssumptions so far: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4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-bank is implemented as a polyphase DFT filt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otype low-pass FIR filter is designed first length L (in our case L=40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e of the prototype is frequency-shifted by multiplying in an M-point FF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2 * #bands = 2 * 128 =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 bank consists of M polyphase filters of length N=L/M (in our case: N=16) followed by an M point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ational complexity is roughly that of a length-L FIR filter + an M-point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410080" y="3276720"/>
                <a:ext cx="1025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947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oblems with current assumptions vs. requiremen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247840"/>
            <a:ext cx="8382240" cy="3069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=4096, the transition b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 kHz, not 3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nsition band 3 kHz, L should be roughly 950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band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totype FIR can never be strictly band-limited (stop-band attenu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op-band rippl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, decimation results in aliasing of out-of-band (transition-band) signals to in-band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5238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860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81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3505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098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23623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9436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L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5812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866960" y="3809880"/>
                <a:ext cx="2668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0666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olyphase FIR / FFT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114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6765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8600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9548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80060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11430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133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762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905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990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990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1981080"/>
            <a:ext cx="3504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2209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6765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2860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954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8006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25909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4382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429000"/>
            <a:ext cx="3504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6765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28600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89548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80060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5181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6172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50292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6019920"/>
            <a:ext cx="3504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9920" y="1523880"/>
            <a:ext cx="15238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5181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438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1676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2400" y="3124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0120" y="5791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1523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9718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6002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16002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1523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2971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2971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297180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5627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lter bank of 128  4096-taps FIR filters, 40kHz trans.band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6" name="bandfilter_response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553440" cy="703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lter bank frequency sweep, showing start-up effec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8" name="sweep_response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Polyphase filter bank frequency sweep, start-up effect discard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0" name="sweep_response_corrected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an Stemerdink</cp:lastModifiedBy>
  <cp:lastPrinted>2002-06-27T06:34:33Z</cp:lastPrinted>
  <dcterms:modified xsi:type="dcterms:W3CDTF">2003-09-22T11:20:25Z</dcterms:modified>
  <cp:revision>63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