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AFF-1C68-463B-85E1-D4B47D19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0FE-286F-4266-AAFE-4FDDC9AE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948-793A-4690-B459-80CC8A19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C8F-3DF9-4F38-9101-40DEA609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882-1B06-4DD0-A8ED-69607306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EF6-E33D-474B-8F77-B8336138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FA6-C210-4FFC-BB42-21215D60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C34-6C06-4F7D-A807-2BD52727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805-23CA-42C0-8FBF-11DAED9F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82C-DB44-4F43-8C8C-AD1D7C0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953-12FE-49D1-BA68-2BF3BED6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3AD-C19C-420A-954C-A53442F5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CFC9-7CB9-4BE3-AA8C-421ACAE24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asurement ef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800600" cy="396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05520" y="1295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2 bits inpu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19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0 bits inpu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648320" cy="39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8672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umber of input bits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Influence of the quantized input signal for th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rtefact in the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7913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t is happening every P*Fs/Nfft with P =1….Nfft due to the downsampling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est ben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09680" y="5791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sing Ns input sample: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est bench experi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89840" y="609588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sing Ns input sample: 4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est bench experiment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89840" y="609588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sing Ns input sample: 8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ve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5251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1066320" y="236232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0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1981080"/>
            <a:ext cx="2895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nclusion: Towards the test be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quantization problem we had on the filter was only due to the small number of data point after downsampling. ( Same number of data used for D=32 was OK but since we have now D = 1024, we should increase the number of input points). The fitting algorithm didn’t have enough point to evaluate good phase and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ake care to have at least more than 500 Points to evaluate the amplitude and phase of the sinewave out of th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artefact of the measurements are happening at fs/Nf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hange the packet size according to new set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wards filter 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mprovements on the filter design is not much we still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op band: -90.5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ass band ripple: -0.4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3dB -&gt; 40dB: 23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3dB -&gt; 90.5dB: 32.8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t exact simu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 2 Trun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 after 1st addition: 1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 after adder tree: 1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4191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wards filter ban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FT fixed -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del from Wessel (Matl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Quantization study : on the polyphase filter structure + on the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sual test  + b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cu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ietse currently writes a document about the implementation fo the polyphase filter bank under V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ion comments the Jerome’s document about the theoritical background of the polyphase filter bank. It needs now some rewri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Jerome has started with a document explaining motivations and design method for the LOFAR test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 can already think about the oversampled polyphase filter bank…. Further discussions should start in about 3 weeks to a month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5:57:18Z</dcterms:created>
  <dc:creator>Jerome Dromer</dc:creator>
  <dc:description/>
  <dc:language>en-US</dc:language>
  <cp:lastModifiedBy>Jerome Dromer</cp:lastModifiedBy>
  <dcterms:modified xsi:type="dcterms:W3CDTF">2004-10-11T13:02:12Z</dcterms:modified>
  <cp:revision>9</cp:revision>
  <dc:subject/>
  <dc:title>Artefact in the measurements</dc:title>
</cp:coreProperties>
</file>