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838224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0880" y="3873240"/>
            <a:ext cx="838224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80880" y="387324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6040" y="387324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15160" y="224748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9440" y="224748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80880" y="387324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15160" y="387324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9440" y="387324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80880" y="2247480"/>
            <a:ext cx="838224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838224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380880" y="1130400"/>
            <a:ext cx="838224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87324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80880" y="2247480"/>
            <a:ext cx="838224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6040" y="387324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873240"/>
            <a:ext cx="838224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838224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0880" y="3873240"/>
            <a:ext cx="838224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80880" y="387324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6040" y="387324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15160" y="224748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9440" y="224748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80880" y="387324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15160" y="387324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9440" y="387324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838224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80880" y="1130400"/>
            <a:ext cx="838224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387324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6040" y="387324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873240"/>
            <a:ext cx="838224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5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571680"/>
            <a:ext cx="9144000" cy="1443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372360"/>
            <a:ext cx="9144000" cy="48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2247480"/>
            <a:ext cx="838224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365880"/>
            <a:ext cx="9144000" cy="712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txtFooterLeft"/>
          <p:cNvSpPr/>
          <p:nvPr/>
        </p:nvSpPr>
        <p:spPr>
          <a:xfrm>
            <a:off x="457200" y="6508800"/>
            <a:ext cx="25401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n Stemerdink - WM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txtFooterRight"/>
          <p:cNvSpPr/>
          <p:nvPr/>
        </p:nvSpPr>
        <p:spPr>
          <a:xfrm>
            <a:off x="6019920" y="6508800"/>
            <a:ext cx="2879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caded polyphase filter banks #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txtFooterDate"/>
          <p:cNvSpPr/>
          <p:nvPr/>
        </p:nvSpPr>
        <p:spPr>
          <a:xfrm>
            <a:off x="3375000" y="6508800"/>
            <a:ext cx="10796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1-Nov-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xtFooterCVLPage"/>
          <p:cNvSpPr/>
          <p:nvPr/>
        </p:nvSpPr>
        <p:spPr>
          <a:xfrm>
            <a:off x="4678200" y="6508800"/>
            <a:ext cx="10796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9051E-67AA-4ADD-A11B-58CE0CA136B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wmclogo-1024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56060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4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5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571680"/>
            <a:ext cx="9144000" cy="144360"/>
          </a:xfrm>
          <a:prstGeom prst="rect">
            <a:avLst/>
          </a:prstGeom>
          <a:solidFill>
            <a:srgbClr val="4c82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372360"/>
            <a:ext cx="9144000" cy="48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365880"/>
            <a:ext cx="9144000" cy="712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77880" y="2286000"/>
            <a:ext cx="7758000" cy="117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xtFooterLeft"/>
          <p:cNvSpPr/>
          <p:nvPr/>
        </p:nvSpPr>
        <p:spPr>
          <a:xfrm>
            <a:off x="793800" y="6508800"/>
            <a:ext cx="25398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n Stemerdink - WM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xtFooterRight"/>
          <p:cNvSpPr/>
          <p:nvPr/>
        </p:nvSpPr>
        <p:spPr>
          <a:xfrm>
            <a:off x="6019920" y="6508800"/>
            <a:ext cx="2879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caded polyphase filter banks #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xtFooterDate"/>
          <p:cNvSpPr/>
          <p:nvPr/>
        </p:nvSpPr>
        <p:spPr>
          <a:xfrm>
            <a:off x="3375000" y="6508800"/>
            <a:ext cx="10796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1-Nov-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xtFooterCVLPage"/>
          <p:cNvSpPr/>
          <p:nvPr/>
        </p:nvSpPr>
        <p:spPr>
          <a:xfrm>
            <a:off x="4678200" y="6508800"/>
            <a:ext cx="10796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5FC55-8F37-46E8-8D55-3031411E200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wmclogo-1024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560600" cy="3524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cs.soton.ac.uk/%7Esw1/papers/weiss01b.ps.gz" TargetMode="External"/><Relationship Id="rId3" Type="http://schemas.openxmlformats.org/officeDocument/2006/relationships/hyperlink" Target="http://www.ecs.soton.ac.uk/%7Esw1/papers/el00_1.ps.gz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4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7880" y="2286000"/>
            <a:ext cx="7758000" cy="117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Cascaded polyphase filter banks #2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53600" y="3919680"/>
            <a:ext cx="640404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sampled cosine-modulated filter ba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905120" y="76320"/>
            <a:ext cx="7238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Polyphase FIR / FFT filter-bank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80880" y="129528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6320" y="1371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152280" y="167580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8600" y="1371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0948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85800" y="1371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990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(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rot="16200000">
            <a:off x="7581960" y="3009600"/>
            <a:ext cx="243828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-point 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-76320" y="1676520"/>
            <a:ext cx="45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28600" y="1828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609480" y="22096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38080" y="129528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1066680" y="274248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06668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143000" y="13716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523880" y="129528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75248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828800" y="13716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28600" y="20574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8580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85800" y="25909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981080" y="129528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20968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438280" y="129528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66688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895480" y="129528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2408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209680" y="1981080"/>
            <a:ext cx="152640" cy="15264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2209680" y="167580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286000" y="1371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286000" y="1828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62320" y="20574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2666880" y="22096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3124080" y="274248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74320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819520" y="259092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743200" y="1371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666880" y="2514600"/>
            <a:ext cx="15264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143000" y="31240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143000" y="2895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200400" y="13716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20040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76720" y="31240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124080" y="3048120"/>
            <a:ext cx="15264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1752480" y="3809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3809880" y="3809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828800" y="41911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828800" y="3962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886200" y="3962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962520" y="419112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809880" y="4114800"/>
            <a:ext cx="15264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828800" y="3352680"/>
            <a:ext cx="0" cy="381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1828800" y="373356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886200" y="13716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886200" y="3352680"/>
            <a:ext cx="0" cy="381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3886200" y="373356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581280" y="129528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038480" y="129528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26708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495680" y="129528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72428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952880" y="129528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18148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267080" y="1981080"/>
            <a:ext cx="152640" cy="15264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4267080" y="167580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343400" y="1371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343400" y="1828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19720" y="20574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4724280" y="22096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5181480" y="274248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80060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876920" y="2590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800600" y="1371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4280" y="2514600"/>
            <a:ext cx="15264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257800" y="13716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25780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4120" y="3124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181480" y="3048120"/>
            <a:ext cx="15264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867280" y="3809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943600" y="3962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019920" y="4191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867280" y="4114800"/>
            <a:ext cx="15264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943600" y="13716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943600" y="3352680"/>
            <a:ext cx="0" cy="381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5943600" y="373356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638680" y="129528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86728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47712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705720" y="129528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93432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162920" y="129528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39152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477120" y="1981080"/>
            <a:ext cx="152280" cy="15264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6477120" y="167580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553080" y="1371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553080" y="1828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629400" y="205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6934320" y="220968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7391520" y="274248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01028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086600" y="25909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010280" y="1371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934320" y="2514600"/>
            <a:ext cx="15228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467480" y="13716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46748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543800" y="3124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391520" y="3048120"/>
            <a:ext cx="15228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8077320" y="380988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153280" y="3962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229600" y="41911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077320" y="4114800"/>
            <a:ext cx="15228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153280" y="13716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8153280" y="3352680"/>
            <a:ext cx="0" cy="381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8153280" y="373356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848720" y="129528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077320" y="13716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324480" y="20574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400800" y="2590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477120" y="3124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781680" y="41911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172200" y="1371600"/>
            <a:ext cx="228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95880" y="2057400"/>
            <a:ext cx="228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095880" y="2590920"/>
            <a:ext cx="228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172200" y="3124080"/>
            <a:ext cx="228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324480" y="4191120"/>
            <a:ext cx="3049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0880" y="2209680"/>
            <a:ext cx="45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838080" y="2743200"/>
            <a:ext cx="45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295280" y="3733920"/>
            <a:ext cx="533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M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905120" y="1600200"/>
            <a:ext cx="45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209680" y="213372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M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666880" y="259092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M+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276720" y="373392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2M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886200" y="1600200"/>
            <a:ext cx="762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2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191120" y="213372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2M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648320" y="266688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2M+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334120" y="373392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3M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295280" y="1371600"/>
            <a:ext cx="152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352680" y="1371600"/>
            <a:ext cx="152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410080" y="1371600"/>
            <a:ext cx="152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620120" y="1371600"/>
            <a:ext cx="1522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543800" y="380988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NM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867280" y="1600200"/>
            <a:ext cx="762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(N-1)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172200" y="2209680"/>
            <a:ext cx="1295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(N-1)M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8305920" y="1905120"/>
            <a:ext cx="228600" cy="304560"/>
          </a:xfrm>
          <a:prstGeom prst="rect">
            <a:avLst/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f2ed"/>
                </a:solidFill>
                <a:latin typeface="Symbol"/>
                <a:ea typeface="Symbol"/>
              </a:rPr>
              <a:t></a:t>
            </a:r>
            <a:r>
              <a:rPr b="0" i="1" lang="en-US" sz="1200" spc="-1" strike="noStrike">
                <a:solidFill>
                  <a:srgbClr val="f3f2ed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8305920" y="2438280"/>
            <a:ext cx="228600" cy="304920"/>
          </a:xfrm>
          <a:prstGeom prst="rect">
            <a:avLst/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f2ed"/>
                </a:solidFill>
                <a:latin typeface="Symbol"/>
                <a:ea typeface="Symbol"/>
              </a:rPr>
              <a:t></a:t>
            </a:r>
            <a:r>
              <a:rPr b="0" i="1" lang="en-US" sz="1200" spc="-1" strike="noStrike">
                <a:solidFill>
                  <a:srgbClr val="f3f2ed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305920" y="2971800"/>
            <a:ext cx="228600" cy="304920"/>
          </a:xfrm>
          <a:prstGeom prst="rect">
            <a:avLst/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f2ed"/>
                </a:solidFill>
                <a:latin typeface="Symbol"/>
                <a:ea typeface="Symbol"/>
              </a:rPr>
              <a:t></a:t>
            </a:r>
            <a:r>
              <a:rPr b="0" i="1" lang="en-US" sz="1200" spc="-1" strike="noStrike">
                <a:solidFill>
                  <a:srgbClr val="f3f2ed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8305920" y="4038480"/>
            <a:ext cx="228600" cy="304920"/>
          </a:xfrm>
          <a:prstGeom prst="rect">
            <a:avLst/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f2ed"/>
                </a:solidFill>
                <a:latin typeface="Symbol"/>
                <a:ea typeface="Symbol"/>
              </a:rPr>
              <a:t></a:t>
            </a:r>
            <a:r>
              <a:rPr b="0" i="1" lang="en-US" sz="1200" spc="-1" strike="noStrike">
                <a:solidFill>
                  <a:srgbClr val="f3f2ed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8534520" y="2057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534520" y="2590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8534520" y="3124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853452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891540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915400" y="3124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915400" y="2590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915400" y="2057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629400" y="2666880"/>
            <a:ext cx="1295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(N-1)M+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905120" y="76320"/>
            <a:ext cx="7238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Oversampled modulated polyphase filter-bank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80880" y="129528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6320" y="1371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152280" y="236160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28600" y="1371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0948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85800" y="1371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0" y="990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(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rot="16200000">
            <a:off x="7391520" y="3504960"/>
            <a:ext cx="24382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ransform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-76320" y="2362320"/>
            <a:ext cx="45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2860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609480" y="28954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838080" y="129528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1066680" y="342828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06668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523880" y="129528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75248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828800" y="20574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28600" y="27432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8580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85800" y="3276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981080" y="129528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20968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438280" y="129528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66688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895480" y="129528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12408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209680" y="2666880"/>
            <a:ext cx="152640" cy="15264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2209680" y="236160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286000" y="2514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362320" y="27432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2666880" y="28954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3124080" y="342828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743200" y="3048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819520" y="327672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666880" y="3200400"/>
            <a:ext cx="15264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143000" y="38098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143000" y="3581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200400" y="20574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200400" y="3581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276720" y="38098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124080" y="3733920"/>
            <a:ext cx="15264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1752480" y="44956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3809880" y="44956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828800" y="48769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828800" y="4648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886200" y="4648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962520" y="487692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09880" y="4800600"/>
            <a:ext cx="15264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828800" y="3962520"/>
            <a:ext cx="0" cy="5331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1828800" y="4343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581280" y="129528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80988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038480" y="129528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26708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495680" y="129528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72428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952880" y="129528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18148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267080" y="2666880"/>
            <a:ext cx="152640" cy="15264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4267080" y="236160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343400" y="2514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419720" y="27432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4724280" y="28954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5181480" y="342828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800600" y="3048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876920" y="32767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724280" y="3200400"/>
            <a:ext cx="15264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257800" y="3581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334120" y="3809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181480" y="3733920"/>
            <a:ext cx="15264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867280" y="44956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943600" y="4648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019920" y="4876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867280" y="4800600"/>
            <a:ext cx="15264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5943600" y="4343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638680" y="129528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86728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47712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705720" y="129528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93432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162920" y="129528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39152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477120" y="2666880"/>
            <a:ext cx="152280" cy="15264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6477120" y="236160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553080" y="2514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6294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6934320" y="289548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7391520" y="342828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010280" y="3048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086600" y="3276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934320" y="3200400"/>
            <a:ext cx="15228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467480" y="3581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543800" y="3809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391520" y="3733920"/>
            <a:ext cx="15228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8077320" y="449568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153280" y="4648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229600" y="48769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077320" y="4800600"/>
            <a:ext cx="15228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8153280" y="4343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848720" y="129528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8077320" y="13716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324480" y="27432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400800" y="3276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47712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781680" y="48769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172200" y="1371600"/>
            <a:ext cx="228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095880" y="2743200"/>
            <a:ext cx="228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095880" y="3276720"/>
            <a:ext cx="228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172200" y="3809880"/>
            <a:ext cx="228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324480" y="4876920"/>
            <a:ext cx="3049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80880" y="2895480"/>
            <a:ext cx="45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838080" y="3429000"/>
            <a:ext cx="45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5280" y="4419720"/>
            <a:ext cx="533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K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905120" y="2286000"/>
            <a:ext cx="45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209680" y="281952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K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666880" y="327672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K+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276720" y="441972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2K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886200" y="2286000"/>
            <a:ext cx="762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2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191120" y="281952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2K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648320" y="335268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2K+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334120" y="441972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3K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371600" y="1371600"/>
            <a:ext cx="1522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429000" y="1371600"/>
            <a:ext cx="1522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410080" y="1371600"/>
            <a:ext cx="152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543800" y="434340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LK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8915400" y="4876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8915400" y="3809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8915400" y="3276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8915400" y="2743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6320" y="1752480"/>
            <a:ext cx="304560" cy="304920"/>
          </a:xfrm>
          <a:prstGeom prst="rect">
            <a:avLst/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f2ed"/>
                </a:solidFill>
                <a:latin typeface="Symbol"/>
                <a:ea typeface="Symbol"/>
              </a:rPr>
              <a:t></a:t>
            </a:r>
            <a:r>
              <a:rPr b="0" i="1" lang="en-US" sz="1200" spc="-1" strike="noStrike">
                <a:solidFill>
                  <a:srgbClr val="f3f2ed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33520" y="1752480"/>
            <a:ext cx="304560" cy="304920"/>
          </a:xfrm>
          <a:prstGeom prst="rect">
            <a:avLst/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f2ed"/>
                </a:solidFill>
                <a:latin typeface="Symbol"/>
                <a:ea typeface="Symbol"/>
              </a:rPr>
              <a:t></a:t>
            </a:r>
            <a:r>
              <a:rPr b="0" i="1" lang="en-US" sz="1200" spc="-1" strike="noStrike">
                <a:solidFill>
                  <a:srgbClr val="f3f2ed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143000" y="1371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990720" y="1752480"/>
            <a:ext cx="304560" cy="304920"/>
          </a:xfrm>
          <a:prstGeom prst="rect">
            <a:avLst/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f2ed"/>
                </a:solidFill>
                <a:latin typeface="Symbol"/>
                <a:ea typeface="Symbol"/>
              </a:rPr>
              <a:t></a:t>
            </a:r>
            <a:r>
              <a:rPr b="0" i="1" lang="en-US" sz="1200" spc="-1" strike="noStrike">
                <a:solidFill>
                  <a:srgbClr val="f3f2ed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28600" y="2057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85800" y="2057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143000" y="20574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828800" y="1371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676520" y="1752480"/>
            <a:ext cx="304560" cy="304920"/>
          </a:xfrm>
          <a:prstGeom prst="rect">
            <a:avLst/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f2ed"/>
                </a:solidFill>
                <a:latin typeface="Symbol"/>
                <a:ea typeface="Symbol"/>
              </a:rPr>
              <a:t></a:t>
            </a:r>
            <a:r>
              <a:rPr b="0" i="1" lang="en-US" sz="1200" spc="-1" strike="noStrike">
                <a:solidFill>
                  <a:srgbClr val="f3f2ed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286000" y="1371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133720" y="1752480"/>
            <a:ext cx="304560" cy="304920"/>
          </a:xfrm>
          <a:prstGeom prst="rect">
            <a:avLst/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f2ed"/>
                </a:solidFill>
                <a:latin typeface="Symbol"/>
                <a:ea typeface="Symbol"/>
              </a:rPr>
              <a:t></a:t>
            </a:r>
            <a:r>
              <a:rPr b="0" i="1" lang="en-US" sz="1200" spc="-1" strike="noStrike">
                <a:solidFill>
                  <a:srgbClr val="f3f2ed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743200" y="1371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590920" y="1752480"/>
            <a:ext cx="304560" cy="304920"/>
          </a:xfrm>
          <a:prstGeom prst="rect">
            <a:avLst/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f2ed"/>
                </a:solidFill>
                <a:latin typeface="Symbol"/>
                <a:ea typeface="Symbol"/>
              </a:rPr>
              <a:t></a:t>
            </a:r>
            <a:r>
              <a:rPr b="0" i="1" lang="en-US" sz="1200" spc="-1" strike="noStrike">
                <a:solidFill>
                  <a:srgbClr val="f3f2ed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200400" y="1371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048120" y="1752480"/>
            <a:ext cx="304560" cy="304920"/>
          </a:xfrm>
          <a:prstGeom prst="rect">
            <a:avLst/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f2ed"/>
                </a:solidFill>
                <a:latin typeface="Symbol"/>
                <a:ea typeface="Symbol"/>
              </a:rPr>
              <a:t></a:t>
            </a:r>
            <a:r>
              <a:rPr b="0" i="1" lang="en-US" sz="1200" spc="-1" strike="noStrike">
                <a:solidFill>
                  <a:srgbClr val="f3f2ed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286000" y="2057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743200" y="2057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371600" y="1905120"/>
            <a:ext cx="228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886200" y="20574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257800" y="20574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886200" y="1371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733920" y="1752480"/>
            <a:ext cx="304560" cy="304920"/>
          </a:xfrm>
          <a:prstGeom prst="rect">
            <a:avLst/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f2ed"/>
                </a:solidFill>
                <a:latin typeface="Symbol"/>
                <a:ea typeface="Symbol"/>
              </a:rPr>
              <a:t></a:t>
            </a:r>
            <a:r>
              <a:rPr b="0" i="1" lang="en-US" sz="1200" spc="-1" strike="noStrike">
                <a:solidFill>
                  <a:srgbClr val="f3f2ed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343400" y="1371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191120" y="1752480"/>
            <a:ext cx="304560" cy="304920"/>
          </a:xfrm>
          <a:prstGeom prst="rect">
            <a:avLst/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f2ed"/>
                </a:solidFill>
                <a:latin typeface="Symbol"/>
                <a:ea typeface="Symbol"/>
              </a:rPr>
              <a:t></a:t>
            </a:r>
            <a:r>
              <a:rPr b="0" i="1" lang="en-US" sz="1200" spc="-1" strike="noStrike">
                <a:solidFill>
                  <a:srgbClr val="f3f2ed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800600" y="1371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648320" y="1752480"/>
            <a:ext cx="304560" cy="304920"/>
          </a:xfrm>
          <a:prstGeom prst="rect">
            <a:avLst/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f2ed"/>
                </a:solidFill>
                <a:latin typeface="Symbol"/>
                <a:ea typeface="Symbol"/>
              </a:rPr>
              <a:t></a:t>
            </a:r>
            <a:r>
              <a:rPr b="0" i="1" lang="en-US" sz="1200" spc="-1" strike="noStrike">
                <a:solidFill>
                  <a:srgbClr val="f3f2ed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257800" y="1371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105520" y="1752480"/>
            <a:ext cx="304560" cy="304920"/>
          </a:xfrm>
          <a:prstGeom prst="rect">
            <a:avLst/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f2ed"/>
                </a:solidFill>
                <a:latin typeface="Symbol"/>
                <a:ea typeface="Symbol"/>
              </a:rPr>
              <a:t></a:t>
            </a:r>
            <a:r>
              <a:rPr b="0" i="1" lang="en-US" sz="1200" spc="-1" strike="noStrike">
                <a:solidFill>
                  <a:srgbClr val="f3f2ed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343400" y="2057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800600" y="2057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943600" y="20574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467480" y="20574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943600" y="1371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791320" y="1752480"/>
            <a:ext cx="304560" cy="304920"/>
          </a:xfrm>
          <a:prstGeom prst="rect">
            <a:avLst/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f2ed"/>
                </a:solidFill>
                <a:latin typeface="Symbol"/>
                <a:ea typeface="Symbol"/>
              </a:rPr>
              <a:t></a:t>
            </a:r>
            <a:r>
              <a:rPr b="0" i="1" lang="en-US" sz="1200" spc="-1" strike="noStrike">
                <a:solidFill>
                  <a:srgbClr val="f3f2ed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553080" y="1371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400800" y="1752480"/>
            <a:ext cx="304920" cy="304920"/>
          </a:xfrm>
          <a:prstGeom prst="rect">
            <a:avLst/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f2ed"/>
                </a:solidFill>
                <a:latin typeface="Symbol"/>
                <a:ea typeface="Symbol"/>
              </a:rPr>
              <a:t></a:t>
            </a:r>
            <a:r>
              <a:rPr b="0" i="1" lang="en-US" sz="1200" spc="-1" strike="noStrike">
                <a:solidFill>
                  <a:srgbClr val="f3f2ed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010280" y="1371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858000" y="1752480"/>
            <a:ext cx="304920" cy="304920"/>
          </a:xfrm>
          <a:prstGeom prst="rect">
            <a:avLst/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f2ed"/>
                </a:solidFill>
                <a:latin typeface="Symbol"/>
                <a:ea typeface="Symbol"/>
              </a:rPr>
              <a:t></a:t>
            </a:r>
            <a:r>
              <a:rPr b="0" i="1" lang="en-US" sz="1200" spc="-1" strike="noStrike">
                <a:solidFill>
                  <a:srgbClr val="f3f2ed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7467480" y="1371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315200" y="1752480"/>
            <a:ext cx="304920" cy="304920"/>
          </a:xfrm>
          <a:prstGeom prst="rect">
            <a:avLst/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f2ed"/>
                </a:solidFill>
                <a:latin typeface="Symbol"/>
                <a:ea typeface="Symbol"/>
              </a:rPr>
              <a:t></a:t>
            </a:r>
            <a:r>
              <a:rPr b="0" i="1" lang="en-US" sz="1200" spc="-1" strike="noStrike">
                <a:solidFill>
                  <a:srgbClr val="f3f2ed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553080" y="2057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010280" y="2057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429000" y="1905120"/>
            <a:ext cx="228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486400" y="1905120"/>
            <a:ext cx="228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96080" y="1905120"/>
            <a:ext cx="228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8153280" y="20574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8153280" y="1371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8001000" y="1752480"/>
            <a:ext cx="304920" cy="304920"/>
          </a:xfrm>
          <a:prstGeom prst="rect">
            <a:avLst/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f2ed"/>
                </a:solidFill>
                <a:latin typeface="Symbol"/>
                <a:ea typeface="Symbol"/>
              </a:rPr>
              <a:t></a:t>
            </a:r>
            <a:r>
              <a:rPr b="0" i="1" lang="en-US" sz="1200" spc="-1" strike="noStrike">
                <a:solidFill>
                  <a:srgbClr val="f3f2ed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095880" y="1828800"/>
            <a:ext cx="152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172200" y="1905120"/>
            <a:ext cx="1522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248520" y="1981080"/>
            <a:ext cx="1522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V="1">
            <a:off x="3886200" y="4343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172200" y="2819520"/>
            <a:ext cx="838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(L-1)K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629400" y="3352680"/>
            <a:ext cx="99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(L-1)K+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867280" y="228600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(L-1)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696080" y="1371600"/>
            <a:ext cx="152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886200" y="3962520"/>
            <a:ext cx="0" cy="5331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943600" y="3962520"/>
            <a:ext cx="0" cy="5331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8153280" y="3962520"/>
            <a:ext cx="0" cy="5331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905120" y="76320"/>
            <a:ext cx="7238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Real modulated polyphase filter-bank (first stage)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80880" y="99072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63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152280" y="205668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28600" y="1066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0948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85800" y="1066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0" y="6858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(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rot="16200000">
            <a:off x="6210360" y="3390480"/>
            <a:ext cx="3886200" cy="1219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ransform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-76320" y="2057400"/>
            <a:ext cx="45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28600" y="2209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609480" y="259020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838080" y="99072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V="1">
            <a:off x="1066680" y="31240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06668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523880" y="99072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75248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8800" y="17524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28600" y="24382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85800" y="2743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685800" y="29718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981080" y="99072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20968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438280" y="99072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66688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895480" y="99072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12408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209680" y="2362320"/>
            <a:ext cx="15264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2209680" y="205668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86000" y="2209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362320" y="24382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2666880" y="259020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3124080" y="31240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743200" y="2743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819520" y="29718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666880" y="2895480"/>
            <a:ext cx="152640" cy="15264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143000" y="35053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143000" y="3276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200400" y="17524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200400" y="3276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276720" y="350532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124080" y="3429000"/>
            <a:ext cx="15264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1752480" y="525708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3809880" y="525708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828800" y="56386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886200" y="5410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962520" y="5638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809880" y="5562720"/>
            <a:ext cx="15264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828800" y="4191120"/>
            <a:ext cx="0" cy="5331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581280" y="99072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80988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038480" y="99072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26708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267080" y="2362320"/>
            <a:ext cx="15264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4267080" y="205668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343400" y="2209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419720" y="24382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71500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943600" y="99072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17220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400800" y="99072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62940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715000" y="2362320"/>
            <a:ext cx="15228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V="1">
            <a:off x="5715000" y="205668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791320" y="2209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867280" y="24382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6172200" y="259020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6629400" y="312408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248520" y="2743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324480" y="29718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172200" y="2895480"/>
            <a:ext cx="152280" cy="15264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705720" y="3276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78168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629400" y="3429000"/>
            <a:ext cx="15228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7315200" y="525708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391520" y="5410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46748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315200" y="5562720"/>
            <a:ext cx="15228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7391520" y="5028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086600" y="99072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7315200" y="10666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562720" y="24382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638680" y="2971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71500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019920" y="5638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410080" y="1066680"/>
            <a:ext cx="228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105520" y="2438280"/>
            <a:ext cx="228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334120" y="2971800"/>
            <a:ext cx="228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334120" y="3505320"/>
            <a:ext cx="228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638680" y="5638680"/>
            <a:ext cx="3049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80880" y="2590920"/>
            <a:ext cx="45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838080" y="3124080"/>
            <a:ext cx="45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295280" y="5149800"/>
            <a:ext cx="533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K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905120" y="1981080"/>
            <a:ext cx="45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209680" y="251460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K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666880" y="297180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K+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276720" y="514980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2K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886200" y="1981080"/>
            <a:ext cx="762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2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191120" y="251460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2K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371600" y="1066680"/>
            <a:ext cx="1522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429000" y="1066680"/>
            <a:ext cx="1522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781680" y="522612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LK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8686800" y="4191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868680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8686800" y="2971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868680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76320" y="1447920"/>
            <a:ext cx="304560" cy="304560"/>
          </a:xfrm>
          <a:prstGeom prst="rect">
            <a:avLst/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f2ed"/>
                </a:solidFill>
                <a:latin typeface="Symbol"/>
                <a:ea typeface="Symbol"/>
              </a:rPr>
              <a:t></a:t>
            </a:r>
            <a:r>
              <a:rPr b="0" i="1" lang="en-US" sz="1200" spc="-1" strike="noStrike">
                <a:solidFill>
                  <a:srgbClr val="f3f2ed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33520" y="1447920"/>
            <a:ext cx="304560" cy="304560"/>
          </a:xfrm>
          <a:prstGeom prst="rect">
            <a:avLst/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f2ed"/>
                </a:solidFill>
                <a:latin typeface="Symbol"/>
                <a:ea typeface="Symbol"/>
              </a:rPr>
              <a:t></a:t>
            </a:r>
            <a:r>
              <a:rPr b="0" i="1" lang="en-US" sz="1200" spc="-1" strike="noStrike">
                <a:solidFill>
                  <a:srgbClr val="f3f2ed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143000" y="1066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990720" y="1447920"/>
            <a:ext cx="304560" cy="304560"/>
          </a:xfrm>
          <a:prstGeom prst="rect">
            <a:avLst/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f2ed"/>
                </a:solidFill>
                <a:latin typeface="Symbol"/>
                <a:ea typeface="Symbol"/>
              </a:rPr>
              <a:t></a:t>
            </a:r>
            <a:r>
              <a:rPr b="0" i="1" lang="en-US" sz="1200" spc="-1" strike="noStrike">
                <a:solidFill>
                  <a:srgbClr val="f3f2ed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28600" y="1752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85800" y="1752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143000" y="17524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828800" y="1066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676520" y="1447920"/>
            <a:ext cx="304560" cy="304560"/>
          </a:xfrm>
          <a:prstGeom prst="rect">
            <a:avLst/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f2ed"/>
                </a:solidFill>
                <a:latin typeface="Symbol"/>
                <a:ea typeface="Symbol"/>
              </a:rPr>
              <a:t></a:t>
            </a:r>
            <a:r>
              <a:rPr b="0" i="1" lang="en-US" sz="1200" spc="-1" strike="noStrike">
                <a:solidFill>
                  <a:srgbClr val="f3f2ed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286000" y="1066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2133720" y="1447920"/>
            <a:ext cx="304560" cy="304560"/>
          </a:xfrm>
          <a:prstGeom prst="rect">
            <a:avLst/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f2ed"/>
                </a:solidFill>
                <a:latin typeface="Symbol"/>
                <a:ea typeface="Symbol"/>
              </a:rPr>
              <a:t></a:t>
            </a:r>
            <a:r>
              <a:rPr b="0" i="1" lang="en-US" sz="1200" spc="-1" strike="noStrike">
                <a:solidFill>
                  <a:srgbClr val="f3f2ed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743200" y="1066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590920" y="1447920"/>
            <a:ext cx="304560" cy="304560"/>
          </a:xfrm>
          <a:prstGeom prst="rect">
            <a:avLst/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f2ed"/>
                </a:solidFill>
                <a:latin typeface="Symbol"/>
                <a:ea typeface="Symbol"/>
              </a:rPr>
              <a:t></a:t>
            </a:r>
            <a:r>
              <a:rPr b="0" i="1" lang="en-US" sz="1200" spc="-1" strike="noStrike">
                <a:solidFill>
                  <a:srgbClr val="f3f2ed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200400" y="1066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048120" y="1447920"/>
            <a:ext cx="304560" cy="304560"/>
          </a:xfrm>
          <a:prstGeom prst="rect">
            <a:avLst/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f2ed"/>
                </a:solidFill>
                <a:latin typeface="Symbol"/>
                <a:ea typeface="Symbol"/>
              </a:rPr>
              <a:t></a:t>
            </a:r>
            <a:r>
              <a:rPr b="0" i="1" lang="en-US" sz="1200" spc="-1" strike="noStrike">
                <a:solidFill>
                  <a:srgbClr val="f3f2ed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286000" y="1752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743200" y="1752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371600" y="1600200"/>
            <a:ext cx="228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886200" y="17524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886200" y="1066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733920" y="1447920"/>
            <a:ext cx="304560" cy="304560"/>
          </a:xfrm>
          <a:prstGeom prst="rect">
            <a:avLst/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f2ed"/>
                </a:solidFill>
                <a:latin typeface="Symbol"/>
                <a:ea typeface="Symbol"/>
              </a:rPr>
              <a:t></a:t>
            </a:r>
            <a:r>
              <a:rPr b="0" i="1" lang="en-US" sz="1200" spc="-1" strike="noStrike">
                <a:solidFill>
                  <a:srgbClr val="f3f2ed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343400" y="1066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191120" y="1447920"/>
            <a:ext cx="304560" cy="304560"/>
          </a:xfrm>
          <a:prstGeom prst="rect">
            <a:avLst/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f2ed"/>
                </a:solidFill>
                <a:latin typeface="Symbol"/>
                <a:ea typeface="Symbol"/>
              </a:rPr>
              <a:t></a:t>
            </a:r>
            <a:r>
              <a:rPr b="0" i="1" lang="en-US" sz="1200" spc="-1" strike="noStrike">
                <a:solidFill>
                  <a:srgbClr val="f3f2ed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343400" y="1752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705720" y="17524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791320" y="1066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5638680" y="1447920"/>
            <a:ext cx="304920" cy="304560"/>
          </a:xfrm>
          <a:prstGeom prst="rect">
            <a:avLst/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f2ed"/>
                </a:solidFill>
                <a:latin typeface="Symbol"/>
                <a:ea typeface="Symbol"/>
              </a:rPr>
              <a:t></a:t>
            </a:r>
            <a:r>
              <a:rPr b="0" i="1" lang="en-US" sz="1200" spc="-1" strike="noStrike">
                <a:solidFill>
                  <a:srgbClr val="f3f2ed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6248520" y="1066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095880" y="1447920"/>
            <a:ext cx="304920" cy="304560"/>
          </a:xfrm>
          <a:prstGeom prst="rect">
            <a:avLst/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f2ed"/>
                </a:solidFill>
                <a:latin typeface="Symbol"/>
                <a:ea typeface="Symbol"/>
              </a:rPr>
              <a:t></a:t>
            </a:r>
            <a:r>
              <a:rPr b="0" i="1" lang="en-US" sz="1200" spc="-1" strike="noStrike">
                <a:solidFill>
                  <a:srgbClr val="f3f2ed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6705720" y="1066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553080" y="1447920"/>
            <a:ext cx="304920" cy="304560"/>
          </a:xfrm>
          <a:prstGeom prst="rect">
            <a:avLst/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f2ed"/>
                </a:solidFill>
                <a:latin typeface="Symbol"/>
                <a:ea typeface="Symbol"/>
              </a:rPr>
              <a:t></a:t>
            </a:r>
            <a:r>
              <a:rPr b="0" i="1" lang="en-US" sz="1200" spc="-1" strike="noStrike">
                <a:solidFill>
                  <a:srgbClr val="f3f2ed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791320" y="1752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248520" y="1752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429000" y="1600200"/>
            <a:ext cx="228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934320" y="1600200"/>
            <a:ext cx="228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7391520" y="17524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7391520" y="1066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7238880" y="1447920"/>
            <a:ext cx="304920" cy="304560"/>
          </a:xfrm>
          <a:prstGeom prst="rect">
            <a:avLst/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f2ed"/>
                </a:solidFill>
                <a:latin typeface="Symbol"/>
                <a:ea typeface="Symbol"/>
              </a:rPr>
              <a:t></a:t>
            </a:r>
            <a:r>
              <a:rPr b="0" i="1" lang="en-US" sz="1200" spc="-1" strike="noStrike">
                <a:solidFill>
                  <a:srgbClr val="f3f2ed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334120" y="1523880"/>
            <a:ext cx="1522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410080" y="1600200"/>
            <a:ext cx="152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486400" y="1676520"/>
            <a:ext cx="1522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410080" y="2514600"/>
            <a:ext cx="838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(L-1)K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867280" y="3048120"/>
            <a:ext cx="99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(L-1)K+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105520" y="198108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(L-1)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934320" y="1066680"/>
            <a:ext cx="1522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886200" y="4191120"/>
            <a:ext cx="0" cy="5331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7391520" y="4191120"/>
            <a:ext cx="0" cy="5331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7696080" y="2362320"/>
            <a:ext cx="15264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7696080" y="2895480"/>
            <a:ext cx="152640" cy="15264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7696080" y="3429000"/>
            <a:ext cx="15264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696080" y="5562720"/>
            <a:ext cx="15264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rot="16200000">
            <a:off x="6477120" y="3962160"/>
            <a:ext cx="3429000" cy="228600"/>
          </a:xfrm>
          <a:prstGeom prst="rect">
            <a:avLst/>
          </a:prstGeom>
          <a:solidFill>
            <a:srgbClr val="4c82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K-point ID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84872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7848720" y="2971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84872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784872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830592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8305920" y="2971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830592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8534520" y="3429000"/>
            <a:ext cx="15228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8534520" y="2895480"/>
            <a:ext cx="152280" cy="15264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8534520" y="2362320"/>
            <a:ext cx="15228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8534520" y="4114800"/>
            <a:ext cx="15228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8305920" y="4191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V="1">
            <a:off x="7772400" y="5714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V="1">
            <a:off x="7772400" y="3581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V="1">
            <a:off x="7772400" y="30477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V="1">
            <a:off x="7772400" y="25142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flipV="1">
            <a:off x="8610480" y="25142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8610480" y="30477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8610480" y="3581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8610480" y="4267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495680" y="99072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72428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4724280" y="259020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800600" y="2743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4724280" y="2895480"/>
            <a:ext cx="152640" cy="15264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4800600" y="1066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4648320" y="1447920"/>
            <a:ext cx="304560" cy="304560"/>
          </a:xfrm>
          <a:prstGeom prst="rect">
            <a:avLst/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f2ed"/>
                </a:solidFill>
                <a:latin typeface="Symbol"/>
                <a:ea typeface="Symbol"/>
              </a:rPr>
              <a:t></a:t>
            </a:r>
            <a:r>
              <a:rPr b="0" i="1" lang="en-US" sz="1200" spc="-1" strike="noStrike">
                <a:solidFill>
                  <a:srgbClr val="f3f2ed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800600" y="1752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876920" y="2971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V="1">
            <a:off x="3886200" y="5028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1828800" y="5028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8610480" y="3809880"/>
            <a:ext cx="0" cy="228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8305920" y="4572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8305920" y="4876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8305920" y="5181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8305920" y="5715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8458200" y="5334120"/>
            <a:ext cx="0" cy="3045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 rot="10800000">
            <a:off x="8457840" y="4648320"/>
            <a:ext cx="42372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iscar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324480" y="594360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al numb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7391520" y="609588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lex numb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 flipH="1" flipV="1">
            <a:off x="7924680" y="571500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 flipH="1" flipV="1">
            <a:off x="7772040" y="594324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 flipV="1">
            <a:off x="8305920" y="579132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 flipH="1" flipV="1">
            <a:off x="6552720" y="571464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 flipV="1">
            <a:off x="7238880" y="571464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rot="16200000">
            <a:off x="6722640" y="4402440"/>
            <a:ext cx="213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lex mod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2133720" y="654120"/>
            <a:ext cx="274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real) samples/sec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191120" y="4114800"/>
            <a:ext cx="1904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N samples/sec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rot="16200000">
            <a:off x="7941600" y="3030840"/>
            <a:ext cx="213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/2 complex out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85800" y="3733920"/>
            <a:ext cx="2362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al filter coefficients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152280" y="5743440"/>
            <a:ext cx="601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 set of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R filters! Because of the oversampling, individual input samples appear in different rows during th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Another example: 128672 bands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6840" y="762120"/>
            <a:ext cx="8381880" cy="5684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stage filter ban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256 ; 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28 sub-b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mation factor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2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stage filter ban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28 filter-banks, one for each first-stage output sub-b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filter banks are the complex version of the first-stage filter-ban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256 ; 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256 sub-b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mation factor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2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(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=224 of the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256 output bands are used; the other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(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/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32 are discar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# output bands =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=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=286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828800" y="0"/>
            <a:ext cx="693432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28672-bands cascaded filter bank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8381880" cy="3172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lab refuses to make a spectrogram of 28672 frequency b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following plot a chirp frequency sweep is shown over the first 1800 second-stage output sub-bands (a little bit over 8 first-stage output ba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weep over the whole range from 0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s also made successfully but can not be shown here (you will have to take my word for 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1828800" y="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Cascaded oversampled filter-bank (chirp-)sweep output, 28672-bands example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901" name="chirpCascadeK256N224_lower8bands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981080" y="0"/>
            <a:ext cx="693432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Prototype frequency response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903" name="prototypeFreqResponse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6629400" cy="45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Oversampled Modulated Filter Banks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38080" y="1415880"/>
            <a:ext cx="6248520" cy="17082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0" y="3467160"/>
            <a:ext cx="8839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Times New Roman"/>
              </a:rPr>
              <a:t>Literature</a:t>
            </a:r>
            <a:r>
              <a:rPr b="0" lang="sv-S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imes New Roman"/>
              </a:rPr>
              <a:t>S. Weiss, </a:t>
            </a:r>
            <a:r>
              <a:rPr b="0" lang="sv-SE" sz="1600" spc="-1" strike="noStrike" u="sng">
                <a:solidFill>
                  <a:srgbClr val="0059b8"/>
                </a:solidFill>
                <a:uFillTx/>
                <a:latin typeface="Times New Roman"/>
                <a:hlinkClick r:id="rId2"/>
              </a:rPr>
              <a:t>Analysis and Fast Implementation of Oversampled Modulated Filter Banks.</a:t>
            </a:r>
            <a:r>
              <a:rPr b="0" lang="sv-SE" sz="1600" spc="-1" strike="noStrike">
                <a:solidFill>
                  <a:srgbClr val="000000"/>
                </a:solidFill>
                <a:latin typeface="Times New Roman"/>
              </a:rPr>
              <a:t> In John G McWhirter and Ian K. Proudler (eds.): Mathematics in Signal Processing V, IMA, pp.263-274, 2001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imes New Roman"/>
              </a:rPr>
              <a:t>S. Weiss and R.W. Stewart, </a:t>
            </a:r>
            <a:r>
              <a:rPr b="0" lang="sv-SE" sz="1600" spc="-1" strike="noStrike" u="sng">
                <a:solidFill>
                  <a:srgbClr val="0059b8"/>
                </a:solidFill>
                <a:uFillTx/>
                <a:latin typeface="Times New Roman"/>
                <a:hlinkClick r:id="rId3"/>
              </a:rPr>
              <a:t>Fast Implementation of Oversampled Modulated Filter Banks.</a:t>
            </a:r>
            <a:r>
              <a:rPr b="0" lang="sv-SE" sz="1600" spc="-1" strike="noStrike">
                <a:solidFill>
                  <a:srgbClr val="000000"/>
                </a:solidFill>
                <a:latin typeface="Times New Roman"/>
              </a:rPr>
              <a:t> IEE Electronics Letters, Vol.36(No.17): pp.1502-1503, August 2000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imes New Roman"/>
              </a:rPr>
              <a:t>S. Weiss and R.W. Stewart, On Adaptive Filtering in Oversampled Subbands. Volume 8 in series: Berichte aus der Kommunikations- und Informationstechnik (eds. B. Girod and J. Huber). Shaker Verlag, Aachen, 1998 (ISBN 3-8265-4566-4), 213 pa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3168720"/>
            <a:ext cx="563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cs.soton.ac.uk/~sw1/software/software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8380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work is based 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7162920" cy="398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Cascaded filter-bank with oversampling – basic idea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057400" y="1752480"/>
            <a:ext cx="2286000" cy="45720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5257800"/>
            <a:ext cx="601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bined second-stage outputs contain no first-stage aliasing and no ga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629400" y="22096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543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200400" y="1371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2209680"/>
            <a:ext cx="876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4419720" y="1523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981080" y="1523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981080" y="1752480"/>
            <a:ext cx="2438640" cy="457200"/>
            <a:chOff x="1981080" y="1752480"/>
            <a:chExt cx="2438640" cy="457200"/>
          </a:xfrm>
        </p:grpSpPr>
        <p:sp>
          <p:nvSpPr>
            <p:cNvPr id="113" name=""/>
            <p:cNvSpPr/>
            <p:nvPr/>
          </p:nvSpPr>
          <p:spPr>
            <a:xfrm>
              <a:off x="2133720" y="175248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1981080" y="1752480"/>
              <a:ext cx="1526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267080" y="1752480"/>
              <a:ext cx="1526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4343400" y="3200400"/>
            <a:ext cx="2286000" cy="457200"/>
          </a:xfrm>
          <a:prstGeom prst="rect">
            <a:avLst/>
          </a:prstGeom>
          <a:solidFill>
            <a:srgbClr val="4c82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486400" y="2819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320" y="3657600"/>
            <a:ext cx="876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705720" y="2971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267080" y="2971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90720" y="1066680"/>
            <a:ext cx="601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irst-stage sub-band is oversampled, so no aliasing occ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81080" y="16002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14600" y="13716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yquist b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67080" y="312408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00600" y="28954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yquist b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0" y="1905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and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19720" y="327672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and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3080" y="37782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467480" y="3930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320" y="5105520"/>
            <a:ext cx="876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057400" y="4648320"/>
            <a:ext cx="2286000" cy="45720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43400" y="4648320"/>
            <a:ext cx="2286000" cy="457200"/>
          </a:xfrm>
          <a:prstGeom prst="rect">
            <a:avLst/>
          </a:prstGeom>
          <a:solidFill>
            <a:srgbClr val="4c82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4648320"/>
            <a:ext cx="1143000" cy="457200"/>
          </a:xfrm>
          <a:prstGeom prst="rect">
            <a:avLst/>
          </a:prstGeom>
          <a:solidFill>
            <a:srgbClr val="4c82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057400" y="2209680"/>
            <a:ext cx="0" cy="2438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343400" y="2209680"/>
            <a:ext cx="0" cy="2438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553080" y="52261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467480" y="5378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267080" y="3200400"/>
            <a:ext cx="2438640" cy="457200"/>
            <a:chOff x="4267080" y="3200400"/>
            <a:chExt cx="2438640" cy="457200"/>
          </a:xfrm>
        </p:grpSpPr>
        <p:sp>
          <p:nvSpPr>
            <p:cNvPr id="139" name=""/>
            <p:cNvSpPr/>
            <p:nvPr/>
          </p:nvSpPr>
          <p:spPr>
            <a:xfrm>
              <a:off x="4419720" y="320040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67080" y="3200400"/>
              <a:ext cx="1526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553080" y="3200400"/>
              <a:ext cx="1526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4419720" y="2209680"/>
            <a:ext cx="0" cy="2438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2209680"/>
            <a:ext cx="0" cy="2438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038480" y="2590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4419360" y="2590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19720" y="236232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verlap prevents g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1219320"/>
            <a:ext cx="2743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nly the alias-free colored areas are used after second-stage filte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114800" y="175248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6095520" y="2057400"/>
            <a:ext cx="38124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7162920" cy="398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Cascaded filter-bank with oversampling - schematic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00200" y="838080"/>
            <a:ext cx="1371600" cy="5410440"/>
          </a:xfrm>
          <a:prstGeom prst="rect">
            <a:avLst/>
          </a:prstGeom>
          <a:solidFill>
            <a:srgbClr val="4c82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lter bank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71800" y="1143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35053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718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1828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971800" y="32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97180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971800" y="4572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971800" y="5257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971800" y="59436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762120"/>
            <a:ext cx="1218960" cy="76176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bank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24280" y="914400"/>
            <a:ext cx="83844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24280" y="838080"/>
            <a:ext cx="83844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24280" y="762120"/>
            <a:ext cx="83844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724280" y="990720"/>
            <a:ext cx="83844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724280" y="1066680"/>
            <a:ext cx="83844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24280" y="1143000"/>
            <a:ext cx="83844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724280" y="1219320"/>
            <a:ext cx="83844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724280" y="1295280"/>
            <a:ext cx="83844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24280" y="1371600"/>
            <a:ext cx="83844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1447920"/>
            <a:ext cx="53352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724280" y="1523880"/>
            <a:ext cx="53352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1280" y="1447920"/>
            <a:ext cx="1219320" cy="761760"/>
          </a:xfrm>
          <a:prstGeom prst="rect">
            <a:avLst/>
          </a:prstGeom>
          <a:solidFill>
            <a:srgbClr val="4c82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bank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0600" y="160020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152388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144792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00600" y="167652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00600" y="175248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00600" y="182880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00600" y="190512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00600" y="198108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00600" y="205740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00600" y="2133720"/>
            <a:ext cx="53352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800600" y="2209680"/>
            <a:ext cx="53352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657600" y="2133720"/>
            <a:ext cx="1219320" cy="76176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bank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76920" y="2286000"/>
            <a:ext cx="8380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76920" y="2209680"/>
            <a:ext cx="8380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76920" y="2133720"/>
            <a:ext cx="8380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76920" y="2362320"/>
            <a:ext cx="8380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76920" y="2438280"/>
            <a:ext cx="8380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2514600"/>
            <a:ext cx="8380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2590920"/>
            <a:ext cx="8380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876920" y="2666880"/>
            <a:ext cx="8380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876920" y="2743200"/>
            <a:ext cx="8380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76920" y="2819520"/>
            <a:ext cx="53316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76920" y="2895480"/>
            <a:ext cx="53316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733920" y="2819520"/>
            <a:ext cx="1218960" cy="761760"/>
          </a:xfrm>
          <a:prstGeom prst="rect">
            <a:avLst/>
          </a:prstGeom>
          <a:solidFill>
            <a:srgbClr val="4c82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bank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971800"/>
            <a:ext cx="83844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2880" y="2895480"/>
            <a:ext cx="83844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952880" y="2819520"/>
            <a:ext cx="83844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952880" y="3048120"/>
            <a:ext cx="83844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952880" y="3124080"/>
            <a:ext cx="83844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952880" y="3200400"/>
            <a:ext cx="83844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952880" y="3276720"/>
            <a:ext cx="83844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952880" y="3352680"/>
            <a:ext cx="83844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52880" y="3429000"/>
            <a:ext cx="83844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952880" y="3505320"/>
            <a:ext cx="53352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952880" y="3581280"/>
            <a:ext cx="53352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9880" y="3505320"/>
            <a:ext cx="1219320" cy="76176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bank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029200" y="3657600"/>
            <a:ext cx="8380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029200" y="3581280"/>
            <a:ext cx="8380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029200" y="3505320"/>
            <a:ext cx="8380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029200" y="3733920"/>
            <a:ext cx="8380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029200" y="3809880"/>
            <a:ext cx="8380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029200" y="3886200"/>
            <a:ext cx="8380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29200" y="3962520"/>
            <a:ext cx="8380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038480"/>
            <a:ext cx="8380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029200" y="4114800"/>
            <a:ext cx="8380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4191120"/>
            <a:ext cx="53352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029200" y="4267080"/>
            <a:ext cx="53352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86200" y="4191120"/>
            <a:ext cx="1219320" cy="761760"/>
          </a:xfrm>
          <a:prstGeom prst="rect">
            <a:avLst/>
          </a:prstGeom>
          <a:solidFill>
            <a:srgbClr val="4c82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bank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05520" y="434340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426708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105520" y="419112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105520" y="441972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449568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105520" y="457200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105520" y="464832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105520" y="472428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05520" y="480060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105520" y="4876920"/>
            <a:ext cx="53316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05520" y="4952880"/>
            <a:ext cx="53316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962520" y="4876920"/>
            <a:ext cx="1218960" cy="76176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bank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181480" y="5029200"/>
            <a:ext cx="83844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81480" y="4952880"/>
            <a:ext cx="83844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81480" y="4876920"/>
            <a:ext cx="83844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181480" y="5105520"/>
            <a:ext cx="83844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181480" y="5181480"/>
            <a:ext cx="83844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81480" y="5257800"/>
            <a:ext cx="83844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81480" y="5334120"/>
            <a:ext cx="83844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81480" y="5410080"/>
            <a:ext cx="83844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181480" y="5486400"/>
            <a:ext cx="83844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181480" y="5562720"/>
            <a:ext cx="53352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181480" y="5638680"/>
            <a:ext cx="53352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038480" y="5562720"/>
            <a:ext cx="1219320" cy="761760"/>
          </a:xfrm>
          <a:prstGeom prst="rect">
            <a:avLst/>
          </a:prstGeom>
          <a:solidFill>
            <a:srgbClr val="4c82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bank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57800" y="571500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57800" y="563868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257800" y="556272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257800" y="579132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57800" y="586728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57800" y="594360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57800" y="601992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257800" y="609588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257800" y="617220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257800" y="6248520"/>
            <a:ext cx="53352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57800" y="6324480"/>
            <a:ext cx="53352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62720" y="762120"/>
            <a:ext cx="121896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562720" y="838080"/>
            <a:ext cx="121896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562720" y="914400"/>
            <a:ext cx="121896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562720" y="990720"/>
            <a:ext cx="121896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1066680"/>
            <a:ext cx="121896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562720" y="1143000"/>
            <a:ext cx="121896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562720" y="1219320"/>
            <a:ext cx="121896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1295280"/>
            <a:ext cx="121896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562720" y="1371600"/>
            <a:ext cx="121896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38680" y="1447920"/>
            <a:ext cx="114300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38680" y="1523880"/>
            <a:ext cx="114300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38680" y="1600200"/>
            <a:ext cx="114300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38680" y="1676520"/>
            <a:ext cx="114300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638680" y="1752480"/>
            <a:ext cx="114300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638680" y="1828800"/>
            <a:ext cx="114300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38680" y="1905120"/>
            <a:ext cx="114300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638680" y="1981080"/>
            <a:ext cx="114300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8680" y="2057400"/>
            <a:ext cx="114300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15000" y="2133720"/>
            <a:ext cx="10666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715000" y="2209680"/>
            <a:ext cx="10666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15000" y="2286000"/>
            <a:ext cx="10666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715000" y="2362320"/>
            <a:ext cx="10666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715000" y="2438280"/>
            <a:ext cx="10666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715000" y="2514600"/>
            <a:ext cx="10666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715000" y="2590920"/>
            <a:ext cx="10666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715000" y="2666880"/>
            <a:ext cx="10666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15000" y="2743200"/>
            <a:ext cx="10666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791320" y="2819520"/>
            <a:ext cx="99036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943600" y="419112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5880" y="5562720"/>
            <a:ext cx="68580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867280" y="3505320"/>
            <a:ext cx="91440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19920" y="4876920"/>
            <a:ext cx="76176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91320" y="2895480"/>
            <a:ext cx="99036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943600" y="426708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5880" y="5638680"/>
            <a:ext cx="68580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867280" y="3581280"/>
            <a:ext cx="91440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19920" y="4952880"/>
            <a:ext cx="76176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2971800"/>
            <a:ext cx="99036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434340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95880" y="5715000"/>
            <a:ext cx="68580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867280" y="3657600"/>
            <a:ext cx="91440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19920" y="5029200"/>
            <a:ext cx="76176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791320" y="3048120"/>
            <a:ext cx="99036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943600" y="441972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95880" y="5791320"/>
            <a:ext cx="68580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867280" y="3733920"/>
            <a:ext cx="91440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019920" y="5105520"/>
            <a:ext cx="76176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791320" y="3124080"/>
            <a:ext cx="99036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943600" y="449568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5880" y="5867280"/>
            <a:ext cx="68580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867280" y="3809880"/>
            <a:ext cx="91440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019920" y="5181480"/>
            <a:ext cx="76176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791320" y="3200400"/>
            <a:ext cx="99036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943600" y="457200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095880" y="5943600"/>
            <a:ext cx="68580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867280" y="3886200"/>
            <a:ext cx="91440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019920" y="5257800"/>
            <a:ext cx="76176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791320" y="3276720"/>
            <a:ext cx="99036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943600" y="464832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095880" y="6019920"/>
            <a:ext cx="68580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867280" y="3962520"/>
            <a:ext cx="91440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019920" y="5334120"/>
            <a:ext cx="76176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91320" y="3352680"/>
            <a:ext cx="99036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943600" y="472428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095880" y="6095880"/>
            <a:ext cx="68580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867280" y="4038480"/>
            <a:ext cx="91440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19920" y="5410080"/>
            <a:ext cx="76176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791320" y="3429000"/>
            <a:ext cx="99036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943600" y="480060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95880" y="6172200"/>
            <a:ext cx="68580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867280" y="4114800"/>
            <a:ext cx="91440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19920" y="5486400"/>
            <a:ext cx="76176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Example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2247840"/>
            <a:ext cx="8382240" cy="1633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following example, the first stage is a real 8-band cosine-modulated filter bank, and the second stage is a 16-band complex cosine-modulated filter-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filter-banks are 16/14-fold oversamp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6705360" cy="398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First-stage real filter-bank frequency sweep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32" name="SweepStage1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6705360" cy="398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Second-stage complex filter-bank frequency sweep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34" name="SweepStage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285640" y="0"/>
            <a:ext cx="5181480" cy="916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Cascaded oversampled filter-bank (chirp-)sweep output, first-stage aliasing eliminated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36" name="chirp_cascade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37920" y="0"/>
            <a:ext cx="617220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Preliminary conclusions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381880" cy="3091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ascaded oversampled cosine-modulated  filter bank principle seems to be successful in eliminating the first-stage sub-band alia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mputational costs are somewhat higher than those of the critically-sampled polyphase filter ban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rst stage includes a complex FFT, as compared to a real FFT for the polyphase filter ba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 modulation is ad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versampling procedure requires a more complex buffering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5T11:56:20Z</dcterms:created>
  <dc:creator>&lt;Author; fill in @ Properties&gt;</dc:creator>
  <dc:description>&lt;File reference and revision&gt;</dc:description>
  <dc:language>en-US</dc:language>
  <cp:lastModifiedBy>Jan Stemerdink</cp:lastModifiedBy>
  <cp:lastPrinted>2002-06-27T06:34:33Z</cp:lastPrinted>
  <dcterms:modified xsi:type="dcterms:W3CDTF">2003-12-05T15:59:34Z</dcterms:modified>
  <cp:revision>98</cp:revision>
  <dc:subject>&lt;subject; fill-in @ Properties&gt;</dc:subject>
  <dc:title>&lt;Title, fill in @ Properties&gt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edBy">
    <vt:lpwstr/>
  </property>
  <property fmtid="{D5CDD505-2E9C-101B-9397-08002B2CF9AE}" pid="3" name="Checked">
    <vt:lpwstr/>
  </property>
  <property fmtid="{D5CDD505-2E9C-101B-9397-08002B2CF9AE}" pid="4" name="Date">
    <vt:lpwstr>5/23/02</vt:lpwstr>
  </property>
  <property fmtid="{D5CDD505-2E9C-101B-9397-08002B2CF9AE}" pid="5" name="DocName">
    <vt:lpwstr>NEW PRESENTATION</vt:lpwstr>
  </property>
  <property fmtid="{D5CDD505-2E9C-101B-9397-08002B2CF9AE}" pid="6" name="DocNo">
    <vt:lpwstr>JAST-02:211 Uen </vt:lpwstr>
  </property>
  <property fmtid="{D5CDD505-2E9C-101B-9397-08002B2CF9AE}" pid="7" name="DocumentType">
    <vt:lpwstr>EnOHLogoNew2001</vt:lpwstr>
  </property>
  <property fmtid="{D5CDD505-2E9C-101B-9397-08002B2CF9AE}" pid="8" name="FooterType">
    <vt:lpwstr>CVL</vt:lpwstr>
  </property>
  <property fmtid="{D5CDD505-2E9C-101B-9397-08002B2CF9AE}" pid="9" name="Keyword">
    <vt:lpwstr/>
  </property>
  <property fmtid="{D5CDD505-2E9C-101B-9397-08002B2CF9AE}" pid="10" name="LeftFooterField">
    <vt:lpwstr>DocNo</vt:lpwstr>
  </property>
  <property fmtid="{D5CDD505-2E9C-101B-9397-08002B2CF9AE}" pid="11" name="MiddleFooterField">
    <vt:lpwstr>Date</vt:lpwstr>
  </property>
  <property fmtid="{D5CDD505-2E9C-101B-9397-08002B2CF9AE}" pid="12" name="Prepared">
    <vt:lpwstr>ELN/K/B Jan Stoter</vt:lpwstr>
  </property>
  <property fmtid="{D5CDD505-2E9C-101B-9397-08002B2CF9AE}" pid="13" name="Reference">
    <vt:lpwstr/>
  </property>
  <property fmtid="{D5CDD505-2E9C-101B-9397-08002B2CF9AE}" pid="14" name="Revision">
    <vt:lpwstr>PA1</vt:lpwstr>
  </property>
  <property fmtid="{D5CDD505-2E9C-101B-9397-08002B2CF9AE}" pid="15" name="RightFooterField">
    <vt:lpwstr>Title</vt:lpwstr>
  </property>
  <property fmtid="{D5CDD505-2E9C-101B-9397-08002B2CF9AE}" pid="16" name="SecClassViewType">
    <vt:lpwstr>True</vt:lpwstr>
  </property>
  <property fmtid="{D5CDD505-2E9C-101B-9397-08002B2CF9AE}" pid="17" name="SecurityClass">
    <vt:lpwstr>Limited Internal</vt:lpwstr>
  </property>
  <property fmtid="{D5CDD505-2E9C-101B-9397-08002B2CF9AE}" pid="18" name="TemplateName">
    <vt:lpwstr>EN/FAD 109 0015/8</vt:lpwstr>
  </property>
  <property fmtid="{D5CDD505-2E9C-101B-9397-08002B2CF9AE}" pid="19" name="TemplateVersion">
    <vt:lpwstr>R1A</vt:lpwstr>
  </property>
  <property fmtid="{D5CDD505-2E9C-101B-9397-08002B2CF9AE}" pid="20" name="Title">
    <vt:lpwstr>SDBB on a Multi-DSP platform</vt:lpwstr>
  </property>
  <property fmtid="{D5CDD505-2E9C-101B-9397-08002B2CF9AE}" pid="21" name="TotalNumb">
    <vt:lpwstr> </vt:lpwstr>
  </property>
  <property fmtid="{D5CDD505-2E9C-101B-9397-08002B2CF9AE}" pid="22" name="x">
    <vt:lpwstr>1</vt:lpwstr>
  </property>
</Properties>
</file>