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2.jpeg" ContentType="image/jpeg"/>
  <Override PartName="/ppt/media/image8.wmf" ContentType="image/x-wmf"/>
  <Override PartName="/ppt/media/image13.png" ContentType="image/png"/>
  <Override PartName="/ppt/media/image16.png" ContentType="image/pn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9.wmf" ContentType="image/x-wmf"/>
  <Override PartName="/ppt/media/image14.png" ContentType="image/png"/>
  <Override PartName="/ppt/media/image7.wmf" ContentType="image/x-wmf"/>
  <Override PartName="/ppt/media/image6.jpeg" ContentType="image/jpeg"/>
  <Override PartName="/ppt/media/image10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6144-39DB-4D7E-8807-6A319FF08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this a year report for the workpackage. If you want anything to be in the LOFAR quarterly and yearly report add it in the notes of the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4949-08C0-4D71-B596-EB970B2C6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38322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C7EF-B3B1-4B36-8A2D-66AADF75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322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38322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57DC-2CC8-4C82-B515-F90D9EE1F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38322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38322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38322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1599-99C9-4AD1-A865-3DA9AE558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774E-47A5-42D9-A7CE-7C67ACEF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4337-4043-42BD-823F-9C7ACEF0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E7C1-B1BA-4B0C-A396-C60F5E45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77CE-5196-4C8B-B8B3-BD2ADC79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2999-09F8-4F0F-B785-A6511ABC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322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2C2D-6D52-4DC9-A697-D7D871AA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38322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8D80-4498-491B-88B1-EAB29394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8322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6893-3E3C-4C23-9F61-CBFB96C9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101520" y="936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1520" y="936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" name=""/>
          <p:cNvGraphicFramePr/>
          <p:nvPr/>
        </p:nvGraphicFramePr>
        <p:xfrm>
          <a:off x="152280" y="152280"/>
          <a:ext cx="8763120" cy="96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76312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264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556236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3C59-5E4F-42B4-A25B-53AB8458D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152280" y="5943600"/>
          <a:ext cx="3048120" cy="762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280" y="5943600"/>
                    <a:ext cx="3048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" name=""/>
          <p:cNvSpPr/>
          <p:nvPr/>
        </p:nvSpPr>
        <p:spPr>
          <a:xfrm>
            <a:off x="6575760" y="6132600"/>
            <a:ext cx="1223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Times New Roman"/>
              </a:rPr>
              <a:t>Oude Hoogeveensedijk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Times New Roman"/>
              </a:rPr>
              <a:t>7991 PD Dwingelo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Times New Roman"/>
              </a:rPr>
              <a:t>P.O. Box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Times New Roman"/>
              </a:rPr>
              <a:t>7990 AA Dwingelo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Times New Roman"/>
              </a:rPr>
              <a:t>The Netherlan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865640" y="6122880"/>
            <a:ext cx="1287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Times New Roman"/>
              </a:rPr>
              <a:t>phone: +31 (0) 521595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Times New Roman"/>
              </a:rPr>
              <a:t>fax: +31 (0) 521 5973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Times New Roman"/>
              </a:rPr>
              <a:t>http://www.astron.n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Times New Roman"/>
              </a:rPr>
              <a:t>http://www.lofar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Times New Roman"/>
              </a:rPr>
              <a:t>veelen,@astron.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" name=""/>
          <p:cNvGrpSpPr/>
          <p:nvPr/>
        </p:nvGrpSpPr>
        <p:grpSpPr>
          <a:xfrm>
            <a:off x="7805880" y="6273720"/>
            <a:ext cx="77760" cy="593280"/>
            <a:chOff x="7805880" y="6273720"/>
            <a:chExt cx="77760" cy="593280"/>
          </a:xfrm>
        </p:grpSpPr>
        <p:sp>
          <p:nvSpPr>
            <p:cNvPr id="14" name=""/>
            <p:cNvSpPr/>
            <p:nvPr/>
          </p:nvSpPr>
          <p:spPr>
            <a:xfrm>
              <a:off x="7844760" y="6323040"/>
              <a:ext cx="0" cy="543960"/>
            </a:xfrm>
            <a:prstGeom prst="line">
              <a:avLst/>
            </a:prstGeom>
            <a:ln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805880" y="6273720"/>
              <a:ext cx="77760" cy="9900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" name=""/>
          <p:cNvGraphicFramePr/>
          <p:nvPr/>
        </p:nvGraphicFramePr>
        <p:xfrm>
          <a:off x="3962520" y="6095880"/>
          <a:ext cx="1447560" cy="611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62520" y="6095880"/>
                    <a:ext cx="144756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2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nOutPowerM16N8" descr=""/>
          <p:cNvPicPr/>
          <p:nvPr/>
        </p:nvPicPr>
        <p:blipFill>
          <a:blip r:embed="rId1"/>
          <a:stretch/>
        </p:blipFill>
        <p:spPr>
          <a:xfrm>
            <a:off x="1752480" y="3083040"/>
            <a:ext cx="5105520" cy="14824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keholder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066680"/>
            <a:ext cx="76964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rade-off between signal quality and implementable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FI: is the critical aspect in order to investigate the best window for the processing. (Folding power to avo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ide lobes with strong sl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ransition band as sharp as possible: (now 32KHz out of  128Khz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lib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Gain, phase linearity: stable (pass band ripple : 0.5 dB suffici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he overlapping caracteristic without discontinu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ulsar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ime series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hort event detection : ex (&lt; 1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sampled filter solution implemented on chirp: VH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se polyphase filter operation to implement under Mat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Look 20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gence stage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wo different filter implementation candidates are defined and underst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ments are def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 of the test bench is 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riting documentation on Janu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ame team should continue the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LOFARds_640x480MvV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152280" y="152280"/>
          <a:ext cx="8763120" cy="96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76312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Integration Start-up and Synchroniz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04920" y="228600"/>
          <a:ext cx="3047760" cy="762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228600"/>
                    <a:ext cx="30477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" name=""/>
          <p:cNvGrpSpPr/>
          <p:nvPr/>
        </p:nvGrpSpPr>
        <p:grpSpPr>
          <a:xfrm>
            <a:off x="5334120" y="5006880"/>
            <a:ext cx="3601800" cy="1649520"/>
            <a:chOff x="5334120" y="5006880"/>
            <a:chExt cx="3601800" cy="1649520"/>
          </a:xfrm>
        </p:grpSpPr>
        <p:graphicFrame>
          <p:nvGraphicFramePr>
            <p:cNvPr id="71" name=""/>
            <p:cNvGraphicFramePr/>
            <p:nvPr/>
          </p:nvGraphicFramePr>
          <p:xfrm>
            <a:off x="5334120" y="5006880"/>
            <a:ext cx="3601800" cy="16495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334120" y="5006880"/>
                      <a:ext cx="3601800" cy="164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" name=""/>
            <p:cNvSpPr/>
            <p:nvPr/>
          </p:nvSpPr>
          <p:spPr>
            <a:xfrm>
              <a:off x="5561640" y="5715000"/>
              <a:ext cx="13420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Times New Roman"/>
                </a:rPr>
                <a:t>Oude Hoogeveensedijk 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Times New Roman"/>
                </a:rPr>
                <a:t>7991 PD Dwingelo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Times New Roman"/>
                </a:rPr>
                <a:t>P.O. Box 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Times New Roman"/>
                </a:rPr>
                <a:t>7990 AA Dwingelo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Times New Roman"/>
                </a:rPr>
                <a:t>The Netherland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082280" y="5715000"/>
              <a:ext cx="14166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Times New Roman"/>
                </a:rPr>
                <a:t>phone: +31 (0) 521595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Times New Roman"/>
                </a:rPr>
                <a:t>fax: +31 (0) 521 59733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Times New Roman"/>
                </a:rPr>
                <a:t>http://www.astron.nl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Times New Roman"/>
                </a:rPr>
                <a:t>http://www.lofar.or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Times New Roman"/>
                </a:rPr>
                <a:t>veelen@astron.n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6934320" y="5638680"/>
              <a:ext cx="152280" cy="914400"/>
              <a:chOff x="6934320" y="5638680"/>
              <a:chExt cx="152280" cy="914400"/>
            </a:xfrm>
          </p:grpSpPr>
          <p:sp>
            <p:nvSpPr>
              <p:cNvPr id="76" name=""/>
              <p:cNvSpPr/>
              <p:nvPr/>
            </p:nvSpPr>
            <p:spPr>
              <a:xfrm>
                <a:off x="7010280" y="5715000"/>
                <a:ext cx="0" cy="838080"/>
              </a:xfrm>
              <a:prstGeom prst="line">
                <a:avLst/>
              </a:prstGeom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934320" y="5638680"/>
                <a:ext cx="152280" cy="152640"/>
              </a:xfrm>
              <a:prstGeom prst="ellipse">
                <a:avLst/>
              </a:prstGeom>
              <a:solidFill>
                <a:srgbClr val="0033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78" name=""/>
          <p:cNvGraphicFramePr/>
          <p:nvPr/>
        </p:nvGraphicFramePr>
        <p:xfrm>
          <a:off x="0" y="6302520"/>
          <a:ext cx="4038480" cy="555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6302520"/>
                    <a:ext cx="403848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914400" y="68580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 Black"/>
              </a:rPr>
              <a:t>&lt;&lt;your workpackage&gt;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2057400"/>
            <a:ext cx="2835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sk For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. Wijnhods (S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Kant (D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. Poiesz (W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Huitz (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. Dromer (J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2520" y="1295280"/>
            <a:ext cx="327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nking For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. van Veelen (Mv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Kant (D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. Wijnholtz (S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Huitz (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. Stemerdink (J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J Boonstra (AJ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. Lubberhuizen (W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. Dromer (J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unst (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. Alliot (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ter task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se into 2 different teams in collab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Forc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quire for the stakeholders and achieve simulations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se and valide the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ress the issues to the thinking fo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ing  Forc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uct study on the filter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 of specialists gather to comments the work of the Task Fo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solutions on the issues adressed by the Task Fo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 motivated stakeholder requirements with an implementable filte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FI (A.J Boonst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ibration: including spectral line observation, continuum sources -&gt; frequency domain studies (J. Nordaam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lsar: Time domain studies needed to measure pulsar characteristic (W. Van Strat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ble solution means that it fits with a reasonable complexity and that the signal processing is well understood( intermodulation effects…, Cascad of polyphase filt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ies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est the behaviour of different filter solu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752120" y="2590920"/>
            <a:ext cx="7086960" cy="3583800"/>
            <a:chOff x="1752120" y="2590920"/>
            <a:chExt cx="7086960" cy="3583800"/>
          </a:xfrm>
        </p:grpSpPr>
        <p:sp>
          <p:nvSpPr>
            <p:cNvPr id="90" name=""/>
            <p:cNvSpPr/>
            <p:nvPr/>
          </p:nvSpPr>
          <p:spPr>
            <a:xfrm>
              <a:off x="3962160" y="2895480"/>
              <a:ext cx="137160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819160" y="2971800"/>
              <a:ext cx="914400" cy="762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81480" y="3124080"/>
              <a:ext cx="53316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38280" y="4876920"/>
              <a:ext cx="83808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62160" y="4724280"/>
              <a:ext cx="1371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14440" y="4572000"/>
              <a:ext cx="1600200" cy="1295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62160" y="5410080"/>
              <a:ext cx="38088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562360" y="4876920"/>
              <a:ext cx="68580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52480" y="33526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1752120" y="5181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52480" y="335268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33560" y="3352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66880" y="2590920"/>
              <a:ext cx="1295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DC : 40/80Ms/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14640" y="335268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38880" y="3352680"/>
              <a:ext cx="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6248160" y="51055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76360" y="5181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57240" y="5181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57240" y="5562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43040" y="4724280"/>
              <a:ext cx="1143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trol     P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04960" y="5943600"/>
              <a:ext cx="1523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PIB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3962160" y="5562720"/>
              <a:ext cx="152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705360" y="3809880"/>
              <a:ext cx="2133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thernet link 100Mb/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62360" y="266688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ata Wrapper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67280" y="5410080"/>
              <a:ext cx="137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ata Unwrapper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14440" y="3124080"/>
              <a:ext cx="990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PG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71440" y="3124080"/>
              <a:ext cx="914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D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09680" y="4572000"/>
              <a:ext cx="1523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ata generat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ies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sk For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stigate the needs of the stakeholders, Define experiments to evaluate the different filter solutions (J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exemple by the use of FIR 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 the FIR under VHDL &amp; test on chip (W.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ify the hardware implementation (Matlab &lt;-&gt; ModelSim &lt;-&gt; FPGA behaviour) (WP &amp; J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lize studies to find the adequate filter solution (J.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ize studies to find the adequate filter solution (J.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solutions and the current prototype (Theta/I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++ implementation: parametrable FIR plugin (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ize the test bench and its compon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++ implemetation (D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orithm investigation (SW &amp; J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PGA Interfacing (WL &amp; W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ies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ing For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ze studies to evaluate the different filter altern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ically sampled polyphase fil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sampled polyphase 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gate the different scenarios in the use of a specific filter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up experiments to evaluate the signal quality after filt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hievements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sampled filter bank is working but still needs optim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including the behavior of the 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bench gives sine wave out, still needs to implement the fitting method towards the gain, phase pl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 filter analysis Matlab &lt;-&gt; C++ &lt;-&gt; ModelSim (quantization issu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47920" y="2819520"/>
            <a:ext cx="2057400" cy="133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5181480" y="2514600"/>
          <a:ext cx="2438640" cy="166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2514600"/>
                    <a:ext cx="243864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chirpCascadeK16N13withCorrection" descr=""/>
          <p:cNvPicPr/>
          <p:nvPr/>
        </p:nvPicPr>
        <p:blipFill>
          <a:blip r:embed="rId4"/>
          <a:stretch/>
        </p:blipFill>
        <p:spPr>
          <a:xfrm>
            <a:off x="2971800" y="1447920"/>
            <a:ext cx="1676520" cy="1062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828800" y="5181480"/>
            <a:ext cx="1676520" cy="1219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5334120" y="5181480"/>
            <a:ext cx="1600200" cy="1165320"/>
          </a:xfrm>
          <a:prstGeom prst="rect">
            <a:avLst/>
          </a:prstGeom>
          <a:ln w="0">
            <a:noFill/>
          </a:ln>
        </p:spPr>
      </p:pic>
      <p:pic>
        <p:nvPicPr>
          <p:cNvPr id="130" name="chirpCascadeK16N16Lp512" descr=""/>
          <p:cNvPicPr/>
          <p:nvPr/>
        </p:nvPicPr>
        <p:blipFill>
          <a:blip r:embed="rId7"/>
          <a:stretch/>
        </p:blipFill>
        <p:spPr>
          <a:xfrm>
            <a:off x="1219320" y="1447920"/>
            <a:ext cx="1752480" cy="1109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6781680" y="1447920"/>
            <a:ext cx="1447920" cy="1023840"/>
          </a:xfrm>
          <a:prstGeom prst="rect">
            <a:avLst/>
          </a:prstGeom>
          <a:ln w="0">
            <a:noFill/>
          </a:ln>
        </p:spPr>
      </p:pic>
      <p:pic>
        <p:nvPicPr>
          <p:cNvPr id="132" name="InOutPowerM16N8" descr=""/>
          <p:cNvPicPr/>
          <p:nvPr/>
        </p:nvPicPr>
        <p:blipFill>
          <a:blip r:embed="rId9"/>
          <a:stretch/>
        </p:blipFill>
        <p:spPr>
          <a:xfrm>
            <a:off x="4648320" y="1447920"/>
            <a:ext cx="2133360" cy="9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ressed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ibration must be adapted to deal wi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Filter: Beamsquint imply gain non line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tral filter: gain non linearity &amp; Phase non mine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 the different defined experiments for the use of  the two filters for each stakeholders to evaluate the signal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on of the simulation vs Implementation reliability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in complexity vs signal degra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act to other work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 Impact on EPA: filter design and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P : Calibration adapted for the filter shap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rome Dromer</cp:lastModifiedBy>
  <dcterms:modified xsi:type="dcterms:W3CDTF">2003-12-18T09:18:35Z</dcterms:modified>
  <cp:revision>53</cp:revision>
  <dc:subject/>
  <dc:title>0.0 Overview</dc:title>
</cp:coreProperties>
</file>