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xtFooterLeft"/>
          <p:cNvSpPr/>
          <p:nvPr/>
        </p:nvSpPr>
        <p:spPr>
          <a:xfrm>
            <a:off x="457200" y="6508800"/>
            <a:ext cx="2540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d polyphase filter banks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-Nov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F222-7311-4D8F-A915-93FD3B31E5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d polyphase filter banks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-Nov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E337-7003-448D-A4E9-705F59B3C0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cs.soton.ac.uk/%7Esw1/papers/weiss01b.ps.gz" TargetMode="External"/><Relationship Id="rId3" Type="http://schemas.openxmlformats.org/officeDocument/2006/relationships/hyperlink" Target="http://www.ecs.soton.ac.uk/%7Esw1/papers/el00_1.ps.gz" TargetMode="External"/><Relationship Id="rId4" Type="http://schemas.openxmlformats.org/officeDocument/2006/relationships/hyperlink" Target="http://www.shaker.de/Online-Gesamtkatalog/Details.asp?ID=21909&amp;CC=1874&amp;ISBN=3-8265-4566-4&amp;Reihe=92.0&amp;start=1" TargetMode="External"/><Relationship Id="rId5" Type="http://schemas.openxmlformats.org/officeDocument/2006/relationships/hyperlink" Target="http://www.ecs.soton.ac.uk/~sw1/software/software.html" TargetMode="External"/><Relationship Id="rId6" Type="http://schemas.openxmlformats.org/officeDocument/2006/relationships/hyperlink" Target="http://www.ecs.soton.ac.uk/~sw1/software/software.html" TargetMode="External"/><Relationship Id="rId7" Type="http://schemas.openxmlformats.org/officeDocument/2006/relationships/hyperlink" Target="http://www.ecs.soton.ac.uk/~sw1/software/software.html" TargetMode="External"/><Relationship Id="rId8" Type="http://schemas.openxmlformats.org/officeDocument/2006/relationships/hyperlink" Target="http://www.ecs.soton.ac.uk/~sw1/software/software.html" TargetMode="External"/><Relationship Id="rId9" Type="http://schemas.openxmlformats.org/officeDocument/2006/relationships/hyperlink" Target="http://www.ecs.soton.ac.uk/~sw1/software/software.html" TargetMode="External"/><Relationship Id="rId10" Type="http://schemas.openxmlformats.org/officeDocument/2006/relationships/hyperlink" Target="http://www.ecs.soton.ac.uk/~sw1/software/software.html" TargetMode="External"/><Relationship Id="rId11" Type="http://schemas.openxmlformats.org/officeDocument/2006/relationships/hyperlink" Target="http://www.ecs.soton.ac.uk/~sw1/software/software.html" TargetMode="Externa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ascaded polyphase filter banks #2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53600" y="3919680"/>
            <a:ext cx="64040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ampled cosine-modulated filt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olyphase FIR / FFT filter-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320" y="1371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522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90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7581960" y="3009600"/>
            <a:ext cx="24382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-point 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76320" y="16765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094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0666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52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2057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81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096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2096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6668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1240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43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2590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752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8098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288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62520" y="4191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288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8862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81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38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7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2670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7242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1814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006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578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814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8672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436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9436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771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05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629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19810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477120" y="167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308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55308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205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934320" y="2209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391520" y="27424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86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514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4380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91520" y="30481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8077320" y="3809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1532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2960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5328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5328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15328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7320" y="1371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244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0080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81680" y="4191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72200" y="1371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5880" y="20574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25909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72200" y="31240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24480" y="41911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2209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2743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3733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0512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0968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2590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67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9112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8320" y="2666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100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20120" y="13716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43800" y="3809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6728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22096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05920" y="1905120"/>
            <a:ext cx="22860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05920" y="24382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297180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05920" y="40384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34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34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53452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5345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915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91540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9154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9154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29400" y="26668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Oversampled modulated polyphase filter-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1371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52280" y="2361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990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7391520" y="3504960"/>
            <a:ext cx="24382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form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-76320" y="23623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094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066680" y="34282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3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52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276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09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66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09680" y="26668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209680" y="2361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62320" y="2743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6668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124080" y="34282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32004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3809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430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767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37339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752480" y="4495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809880" y="4495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4876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4876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4800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82880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9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38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67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5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724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267080" y="2361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434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19720" y="2743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7242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181480" y="34282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769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24280" y="32004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41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7280" y="4495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199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4800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94360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38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771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05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9343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629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915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26668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477120" y="2361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93432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391520" y="34282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10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8660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34320" y="32004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674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4380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91520" y="37339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8077320" y="4495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532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29600" y="4876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077320" y="4800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15328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48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077320" y="1371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244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008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771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81680" y="4876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72200" y="1371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5880" y="2743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95880" y="32767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72200" y="38098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324480" y="48769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8954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34290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44197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05120" y="22860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09680" y="28195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66880" y="3276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4419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2286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28195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48320" y="3352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4419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1600" y="13716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29000" y="13716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100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43800" y="43434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9154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915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9154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915400" y="2743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30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07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58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300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28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765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860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337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81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432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71600" y="19051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8620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5780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862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3434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00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57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055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434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006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4360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43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913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530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00800" y="1752480"/>
            <a:ext cx="30492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102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58000" y="1752480"/>
            <a:ext cx="30492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4674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15200" y="1752480"/>
            <a:ext cx="30492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530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102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429000" y="19051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19051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96080" y="19051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15328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01000" y="1752480"/>
            <a:ext cx="30492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8288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1905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19810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88620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72200" y="28195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629400" y="335268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67280" y="22860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960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360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15328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Real modulated polyphase filter-bank (first stage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08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3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280" y="20566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86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16200000">
            <a:off x="6210360" y="3390480"/>
            <a:ext cx="38862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form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-76320" y="20574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86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09480" y="2590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066680" y="31240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0666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38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880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810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6668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09680" y="23623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209680" y="20566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62320" y="2438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666880" y="2590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124080" y="31240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432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2971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666880" y="28954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4300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430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004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76720" y="3505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24080" y="34290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752480" y="52570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809880" y="52570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28800" y="5638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6252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9880" y="55627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28800" y="4191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812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098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0384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2670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23623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267080" y="20566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3434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419720" y="2438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1500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7220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0080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2940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15000" y="23623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715000" y="20566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913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6728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6172200" y="2590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629400" y="31240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485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324480" y="2971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72200" y="28954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05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8168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315200" y="52570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3915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15200" y="55627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739152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315200" y="1066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6272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386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150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0199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10080" y="10666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05520" y="24382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34120" y="29718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34120" y="35053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638680" y="563868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0880" y="25909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38080" y="31240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95280" y="51498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905120" y="19810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25146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2971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76720" y="5149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19810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91120" y="25146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71600" y="10666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29000" y="10666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81680" y="5226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686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686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686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686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63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35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430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430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8288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765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860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337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5909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481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71600" y="1600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339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70572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913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386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58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5530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9132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9000" y="1600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934320" y="1600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39152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915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34120" y="15238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6002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86400" y="16765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25146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67280" y="304812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105520" y="19810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934320" y="10666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86200" y="4191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6080" y="23623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96080" y="28954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96080" y="55627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16200000">
            <a:off x="6477120" y="3962160"/>
            <a:ext cx="3429000" cy="2286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-point ID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848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8487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8487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8487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05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059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059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534520" y="34290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34520" y="28954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534520" y="23623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534520" y="41148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3059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72400" y="57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724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724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2400" y="251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8610480" y="251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86104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6104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86104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956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7242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724280" y="2590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006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724280" y="28954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006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483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8006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9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388620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82880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610480" y="3809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305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059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059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458200" y="5334120"/>
            <a:ext cx="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0800000">
            <a:off x="8457840" y="4648320"/>
            <a:ext cx="4237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sc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24480" y="59436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6095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7924680" y="57150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 flipV="1">
            <a:off x="7772040" y="59432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8305920" y="5791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 flipV="1">
            <a:off x="6552720" y="5714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7238880" y="57146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rot="16200000">
            <a:off x="6722640" y="4402440"/>
            <a:ext cx="21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133720" y="654120"/>
            <a:ext cx="27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real) samples/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91120" y="41148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N samples/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16200000">
            <a:off x="7941600" y="3030840"/>
            <a:ext cx="21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/2 complex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 filter coefficient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52280" y="574344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 filters! Because of the oversampling, individual input samples appear in different rows during th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Another example: 128672 band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684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filter ba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stage filter ba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filter-banks, one for each first-stage output sub-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ilter banks are the complex version of the first-stage filter-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224 of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output bands are used; the other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32 are disc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# output bands 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=286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28672-bands cascaded filter 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refuses to make a spectrogram of 28672 frequency bands (too much information for Matlab to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lot a chirp frequency sweep is shown over the first 1800 second-stage output sub-bands (a little bit over 8 first-stage output b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28672-bands example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01" name="chirpCascadeK256N224_lower8band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781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ull sweep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7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eep over the whole range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also made successfully but can not be show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 of the sweep is shown in the following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28672-bands example, partial plot (bands 16000-19000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05" name="chirpCascadeK256N224part16000_19000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ototype frequency respons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07" name="prototypeFreqResponse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esidual aliasing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133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liasing is still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plots show the sub-band outputs with a sine-wav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aliasing level is about 30 dB below the signal level (in this test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ork remains to be done in optimizing the prototype further; for example increase the oversample ratio (this is 256/224=1.143 in this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415880"/>
            <a:ext cx="6248520" cy="170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467160"/>
            <a:ext cx="883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2"/>
              </a:rPr>
              <a:t>Analysis and 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n John G McWhirter and Ian K. Proudler (eds.): Mathematics in Signal Processing V, IMA, pp.263-274, 200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3"/>
              </a:rPr>
              <a:t>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EE Electronics Letters, Vol.36(No.17): pp.1502-1503, August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4"/>
              </a:rPr>
              <a:t>On Adaptive Filtering in Oversampled Subband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Volume 8 in series: Berichte aus der Kommunikations- und Informationstechnik (eds. B. Girod and J. Huber). Shaker Verlag, Aachen, 1998 (ISBN 3-8265-4566-4), 213 p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687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6"/>
              </a:rPr>
              <a:t>ecs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8"/>
              </a:rPr>
              <a:t>soton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9"/>
              </a:rPr>
              <a:t>.ac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0"/>
              </a:rPr>
              <a:t>uk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1"/>
              </a:rPr>
              <a:t>/~sw1/software/softwar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ork is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liasing levels of 128*224-band cascaded filter 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11" name="cCW_CascadeK256N224_alia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03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liasing levels of 128*224-band cascaded filter bank, first 5000 output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13" name="cCW_CascadeK256N224_alias_5000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69343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Higher oversampling ratio gives better alias rejec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6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the oversampling ratio to 256/208 (=16/13=1.231) improves the aliasing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llowing example aliasing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8 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low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tage filter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stage filter ba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filter-banks, one for each first-stage output sub-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ilter banks are the complex version of the first-stage filter-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208 of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output bands are used; the other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8 are disc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output bands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266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128*208=26624-bands example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17" name="chirpCascadeK256N208_lower8bands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liasing levels of 128*208-band cascaded filter 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19" name="CW_CascadeK256N208_alia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03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liasing levels of 128*208-band cascaded filter bank, first 5000 output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21" name="CW_CascadeK256N208_alias_5000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scaded filter-bank with oversampling – basic idea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752480"/>
            <a:ext cx="228600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25780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ed second-stage outputs contain no first-stage aliasing and no g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2209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2004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209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41972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8108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1752480"/>
            <a:ext cx="2438640" cy="457200"/>
            <a:chOff x="1981080" y="1752480"/>
            <a:chExt cx="2438640" cy="457200"/>
          </a:xfrm>
        </p:grpSpPr>
        <p:sp>
          <p:nvSpPr>
            <p:cNvPr id="113" name=""/>
            <p:cNvSpPr/>
            <p:nvPr/>
          </p:nvSpPr>
          <p:spPr>
            <a:xfrm>
              <a:off x="2133720" y="1752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981080" y="175248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175248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3400" y="3200400"/>
            <a:ext cx="2286000" cy="4572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6576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70572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6708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06668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-stage sub-band is oversampled, so no aliasing oc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600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371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12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895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1905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nd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276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nd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778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3930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510552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648320"/>
            <a:ext cx="228600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4648320"/>
            <a:ext cx="2286000" cy="4572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648320"/>
            <a:ext cx="1143000" cy="45720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5226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5378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67080" y="3200400"/>
            <a:ext cx="2438640" cy="457200"/>
            <a:chOff x="4267080" y="3200400"/>
            <a:chExt cx="2438640" cy="457200"/>
          </a:xfrm>
        </p:grpSpPr>
        <p:sp>
          <p:nvSpPr>
            <p:cNvPr id="139" name=""/>
            <p:cNvSpPr/>
            <p:nvPr/>
          </p:nvSpPr>
          <p:spPr>
            <a:xfrm>
              <a:off x="4419720" y="32004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670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41972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41936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23623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verlap prevents 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21932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ly the alias-free colored areas are used after second-stage fil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114800" y="17524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095520" y="20574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scaded filter-bank with oversampling - schemat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838080"/>
            <a:ext cx="1371600" cy="541044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ban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5943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62120"/>
            <a:ext cx="121896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9144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8380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7621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9907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10666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11430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12193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2952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13716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14479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15238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479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6002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15238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14479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6765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7524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18288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905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981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057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1337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22096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2133720"/>
            <a:ext cx="121932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2860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22096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1337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3623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4382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5146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25909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6668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27432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2819520"/>
            <a:ext cx="5331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2895480"/>
            <a:ext cx="5331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819520"/>
            <a:ext cx="121896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9718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28954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8195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30481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31240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32004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32767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33526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4290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5053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35812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3505320"/>
            <a:ext cx="121932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6576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5812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35053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7339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38862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39625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0384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41148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1911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42670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41911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4343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267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4191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4419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4495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4572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648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724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4800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876920"/>
            <a:ext cx="5331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4952880"/>
            <a:ext cx="5331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4876920"/>
            <a:ext cx="121896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50292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49528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8769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51055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51814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52578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53341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54100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4864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6386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55627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715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5638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5562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5791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5867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5943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60199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60958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61722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62485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3244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7621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8380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9144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9907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10666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11430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12193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12952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13716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14479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15238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6002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6765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17524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18288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19051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9810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0574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1337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22096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22860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23623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24382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25146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25909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26668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27432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28195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4191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5627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35053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48769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267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56386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5812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49528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29718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4343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7150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6576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50292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30481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4419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57913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37339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51055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31240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4495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58672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38098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19920" y="51814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2004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4572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59436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8862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2578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2767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4648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60199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39625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53341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33526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4724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60958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40384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19920" y="54100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34290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4800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61722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41148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19920" y="54864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2247840"/>
            <a:ext cx="8382240" cy="1633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example, the first stage is a real 8-band cosine-modulated filter bank, and the second stage is a 16-band complex cosine-modulated filter-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lter-banks are 16/14-fold oversamp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05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rst-stage real filter-bank frequency sweep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2" name="SweepStage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05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Second-stage complex filter-bank frequency sweep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4" name="SweepStage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5181480" cy="91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first-stage aliasing eliminat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6" name="chirp_cascade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eliminary conclusion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81880" cy="3091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scaded oversampled cosine-modulated  filter bank principle seems to be successful in eliminating the first-stage sub-band al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utational costs are somewhat higher than those of the critically-sampled polyphase filter ba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age includes a complex FFT, as compared to a real FFT for the polyphase filt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modulation is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sampling procedure requires a more complex bufferin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1:56:20Z</dcterms:created>
  <dc:creator>&lt;Author; fill in @ Properties&gt;</dc:creator>
  <dc:description>&lt;File reference and revision&gt;</dc:description>
  <dc:language>en-US</dc:language>
  <cp:lastModifiedBy>Jan Stemerdink</cp:lastModifiedBy>
  <cp:lastPrinted>2002-06-27T06:34:33Z</cp:lastPrinted>
  <dcterms:modified xsi:type="dcterms:W3CDTF">2003-12-11T10:00:13Z</dcterms:modified>
  <cp:revision>103</cp:revision>
  <dc:subject>&lt;subject; fill-in @ Properties&gt;</dc:subject>
  <dc:title>&lt;Title, fill in @ Properties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5/23/02</vt:lpwstr>
  </property>
  <property fmtid="{D5CDD505-2E9C-101B-9397-08002B2CF9AE}" pid="5" name="DocName">
    <vt:lpwstr>NEW PRESENTATION</vt:lpwstr>
  </property>
  <property fmtid="{D5CDD505-2E9C-101B-9397-08002B2CF9AE}" pid="6" name="DocNo">
    <vt:lpwstr>JAST-02:211 Uen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ELN/K/B Jan Stoter</vt:lpwstr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SDBB on a Multi-DSP platform</vt:lpwstr>
  </property>
  <property fmtid="{D5CDD505-2E9C-101B-9397-08002B2CF9AE}" pid="21" name="TotalNumb">
    <vt:lpwstr> </vt:lpwstr>
  </property>
  <property fmtid="{D5CDD505-2E9C-101B-9397-08002B2CF9AE}" pid="22" name="x">
    <vt:lpwstr>1</vt:lpwstr>
  </property>
</Properties>
</file>