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F60-CA9B-43CD-AF85-CF5178B9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E24-60F5-4D78-90C1-2B2A31B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D12-5AF9-4F3D-9B0D-B8D3DD7D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943-7E23-4CB8-9983-04F754FE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726-A753-479D-962C-BDCECBAC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662-E717-4450-9869-AF1794AC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B83-68F8-42B2-81E0-40FC5C9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A20-BB10-4B79-AEDD-2BB367FD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875-60D8-4CA5-B383-717969A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3C8-85AC-4FD8-82AB-EF15D76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A8E-F354-4DDB-B749-FEF56FA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F27-B853-41D9-8DD7-EAC7970E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C26-CE20-497C-BF0E-0810F98A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371600"/>
          <a:ext cx="762012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62012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iser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990720"/>
          <a:ext cx="76201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201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5800" y="5715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esting because the order can be calculated before hand: order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r LS minimum coeffic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1 and W2 translate the severity you give to respect the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1371600"/>
          <a:ext cx="609588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09588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9:00:49Z</dcterms:created>
  <dc:creator>Jerome Dromer</dc:creator>
  <dc:description/>
  <dc:language>en-US</dc:language>
  <cp:lastModifiedBy>Jerome Dromer</cp:lastModifiedBy>
  <dcterms:modified xsi:type="dcterms:W3CDTF">2004-07-09T09:46:23Z</dcterms:modified>
  <cp:revision>1</cp:revision>
  <dc:subject/>
  <dc:title>Fir Ls</dc:title>
</cp:coreProperties>
</file>