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465-0DB9-4258-B6A5-DFE834F6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CDB-4F5E-40DE-8F79-81EC28C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0F2-BB41-409B-82B4-0D3DDD05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121-99C9-49C2-A5AB-F53C5B46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6E2-D225-4345-81E5-E421E26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CA7-F2A7-4212-B514-0177FE25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3C5-AFE9-4938-97DD-D60C39C0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E56-B280-4371-9F1B-B04B4D2A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8B9-4B9B-4D5D-9565-E07B97F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1CC-9FBD-46A9-828A-589BB57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45B-65FB-4791-B838-156F5B3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CE1-ED9C-4956-B92E-F77535C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50A0-A4ED-4FE9-BFE1-28D0E0D3E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371600"/>
          <a:ext cx="762012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62012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iser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990720"/>
          <a:ext cx="76201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201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" y="5715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esting because the order can be calculated before hand: ord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 minimum coefficients,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n =40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1 and W2 translate the severity you give to respect the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1600200"/>
          <a:ext cx="73915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3915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 zoom, n =40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295280"/>
          <a:ext cx="8610480" cy="535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104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Using FirCLS1, n = 30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257800"/>
            <a:ext cx="3733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p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s = 91 at 232KHz wi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92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5KHz theo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9320" y="5486400"/>
            <a:ext cx="337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 = 59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 theoritical = 97,5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3656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om on the Pass band and transition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9:00:49Z</dcterms:created>
  <dc:creator>Jerome Dromer</dc:creator>
  <dc:description/>
  <dc:language>en-US</dc:language>
  <cp:lastModifiedBy>Jerome Dromer</cp:lastModifiedBy>
  <dcterms:modified xsi:type="dcterms:W3CDTF">2004-07-09T11:30:27Z</dcterms:modified>
  <cp:revision>4</cp:revision>
  <dc:subject/>
  <dc:title>Fir Ls</dc:title>
</cp:coreProperties>
</file>