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516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944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8088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516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944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80880" y="1130400"/>
            <a:ext cx="83822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1516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944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88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1516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944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80880" y="1130400"/>
            <a:ext cx="83822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571680"/>
            <a:ext cx="9144000" cy="144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72360"/>
            <a:ext cx="9144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365880"/>
            <a:ext cx="9144000" cy="71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xtFooterLeft"/>
          <p:cNvSpPr/>
          <p:nvPr/>
        </p:nvSpPr>
        <p:spPr>
          <a:xfrm>
            <a:off x="457200" y="6508800"/>
            <a:ext cx="25401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n Stemerdink - WM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xtFooterRight"/>
          <p:cNvSpPr/>
          <p:nvPr/>
        </p:nvSpPr>
        <p:spPr>
          <a:xfrm>
            <a:off x="6019920" y="6508800"/>
            <a:ext cx="287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bank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xtFooterDate"/>
          <p:cNvSpPr/>
          <p:nvPr/>
        </p:nvSpPr>
        <p:spPr>
          <a:xfrm>
            <a:off x="33750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-Sep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xtFooterCVLPage"/>
          <p:cNvSpPr/>
          <p:nvPr/>
        </p:nvSpPr>
        <p:spPr>
          <a:xfrm>
            <a:off x="46782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B0D4-461B-4D94-A454-00E0A86F1A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wmclogo-102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5606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71680"/>
            <a:ext cx="9144000" cy="144360"/>
          </a:xfrm>
          <a:prstGeom prst="rect">
            <a:avLst/>
          </a:prstGeom>
          <a:solidFill>
            <a:srgbClr val="4c8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372360"/>
            <a:ext cx="9144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65880"/>
            <a:ext cx="9144000" cy="71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7880" y="2286000"/>
            <a:ext cx="77580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xtFooterLeft"/>
          <p:cNvSpPr/>
          <p:nvPr/>
        </p:nvSpPr>
        <p:spPr>
          <a:xfrm>
            <a:off x="793800" y="6508800"/>
            <a:ext cx="2539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n Stemerdink - WM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xtFooterRight"/>
          <p:cNvSpPr/>
          <p:nvPr/>
        </p:nvSpPr>
        <p:spPr>
          <a:xfrm>
            <a:off x="6019920" y="6508800"/>
            <a:ext cx="287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bank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xtFooterDate"/>
          <p:cNvSpPr/>
          <p:nvPr/>
        </p:nvSpPr>
        <p:spPr>
          <a:xfrm>
            <a:off x="33750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-Sep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xtFooterCVLPage"/>
          <p:cNvSpPr/>
          <p:nvPr/>
        </p:nvSpPr>
        <p:spPr>
          <a:xfrm>
            <a:off x="46782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53AF-C28C-47F3-AC92-EFE3696F05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wmclogo-102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560600" cy="352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ecs.soton.ac.uk/%7Esw1/papers/weiss01b.ps.gz" TargetMode="External"/><Relationship Id="rId3" Type="http://schemas.openxmlformats.org/officeDocument/2006/relationships/hyperlink" Target="http://www.ecs.soton.ac.uk/%7Esw1/papers/el00_1.ps.gz" TargetMode="External"/><Relationship Id="rId4" Type="http://schemas.openxmlformats.org/officeDocument/2006/relationships/hyperlink" Target="http://www.shaker.de/Online-Gesamtkatalog/Details.asp?ID=21909&amp;CC=1874&amp;ISBN=3-8265-4566-4&amp;Reihe=92.0&amp;start=1" TargetMode="External"/><Relationship Id="rId5" Type="http://schemas.openxmlformats.org/officeDocument/2006/relationships/hyperlink" Target="http://www.ecs.soton.ac.uk/~sw1/software/software.html" TargetMode="External"/><Relationship Id="rId6" Type="http://schemas.openxmlformats.org/officeDocument/2006/relationships/hyperlink" Target="http://www.ecs.soton.ac.uk/~sw1/software/software.html" TargetMode="External"/><Relationship Id="rId7" Type="http://schemas.openxmlformats.org/officeDocument/2006/relationships/hyperlink" Target="http://www.ecs.soton.ac.uk/~sw1/software/software.html" TargetMode="External"/><Relationship Id="rId8" Type="http://schemas.openxmlformats.org/officeDocument/2006/relationships/hyperlink" Target="http://www.ecs.soton.ac.uk/~sw1/software/software.html" TargetMode="External"/><Relationship Id="rId9" Type="http://schemas.openxmlformats.org/officeDocument/2006/relationships/hyperlink" Target="http://www.ecs.soton.ac.uk/~sw1/software/software.html" TargetMode="External"/><Relationship Id="rId10" Type="http://schemas.openxmlformats.org/officeDocument/2006/relationships/hyperlink" Target="http://www.ecs.soton.ac.uk/~sw1/software/software.html" TargetMode="External"/><Relationship Id="rId11" Type="http://schemas.openxmlformats.org/officeDocument/2006/relationships/hyperlink" Target="http://www.ecs.soton.ac.uk/~sw1/software/software.html" TargetMode="External"/><Relationship Id="rId1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880" y="2286000"/>
            <a:ext cx="77580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ilter bank requirements and design issue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53600" y="3919680"/>
            <a:ext cx="640404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655308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Polyphase FIR / FFT filter-bank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0" y="990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1143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981080" y="144720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3372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90920" y="1143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590920" y="144720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74320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1143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3200400" y="144720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268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1143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5105520" y="144720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5780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62520" y="114300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86400" y="2133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762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14400" y="1905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447920" y="990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95480" y="990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05320" y="9907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00600" y="990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432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3526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2578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981080" y="1981080"/>
            <a:ext cx="3505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114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66680" y="1143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66680" y="2209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0" y="2438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2880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981080" y="289476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37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590920" y="2590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2590920" y="289476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432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200400" y="289476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3526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10552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105520" y="289476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2578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259092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4864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447920" y="243828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95480" y="2438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505320" y="2438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600" y="2438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37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432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526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2578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81080" y="3429000"/>
            <a:ext cx="3505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0" y="5029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1981080" y="548568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337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590920" y="5181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590920" y="548568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4320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200400" y="548568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5268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105520" y="5181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5105520" y="548568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5780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518148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48640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50292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95480" y="5029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053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00600" y="5029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13372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432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35268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2578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6019920"/>
            <a:ext cx="3505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066680" y="2590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24480" y="1523880"/>
            <a:ext cx="152424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66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5181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14400" y="4572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6668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066680" y="3962520"/>
            <a:ext cx="0" cy="53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848720" y="2133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8487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84872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077320" y="16765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077320" y="312408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924680" y="57913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828800" y="152388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752480" y="297180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76520" y="55627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62320" y="16002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1600200"/>
            <a:ext cx="60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95680" y="152388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(N-1)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09680" y="2971800"/>
            <a:ext cx="60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29718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M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2971800"/>
            <a:ext cx="990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(N-1)M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09680" y="5562720"/>
            <a:ext cx="60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819520" y="55627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3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48320" y="556272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28600" y="1066680"/>
            <a:ext cx="0" cy="5181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16200000">
            <a:off x="-4428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=2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2004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=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1980720" y="41911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334120" y="609480"/>
            <a:ext cx="32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der of complex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=M*N = 4096 taps @ 250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05120" y="76320"/>
            <a:ext cx="7238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Polyphase FIR / FFT filter-bank, alternative representation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808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320" y="1371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152280" y="16758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8600" y="1371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4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1371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990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7581960" y="3009600"/>
            <a:ext cx="243828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-point 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-76320" y="167652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860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609480" y="22096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380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1066680" y="27424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0666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4300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238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28800" y="1371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20574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590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096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382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668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954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209680" y="1981080"/>
            <a:ext cx="15264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209680" y="16758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86000" y="1371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86000" y="1828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362320" y="20574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2666880" y="22096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124080" y="27424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432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19520" y="2590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743200" y="1371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666880" y="25146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31240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14300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00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276720" y="31240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124080" y="304812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1752480" y="3809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809880" y="3809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28800" y="4191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288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8620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62520" y="41911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9880" y="41148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3352680"/>
            <a:ext cx="0" cy="381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1828800" y="3733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86200" y="1371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86200" y="3352680"/>
            <a:ext cx="0" cy="381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886200" y="3733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5812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098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0384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670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4956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7242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9528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1814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267080" y="1981080"/>
            <a:ext cx="15264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267080" y="16758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43400" y="1371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343400" y="1828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41972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4724280" y="22096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181480" y="27424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8006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7692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800600" y="1371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724280" y="25146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25780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2578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3412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81480" y="304812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5867280" y="3809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4360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1992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943600" y="1371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943600" y="3352680"/>
            <a:ext cx="0" cy="381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943600" y="3733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386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7712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70572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93432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16292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39152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477120" y="1981080"/>
            <a:ext cx="15228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477120" y="16758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553080" y="1371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553080" y="1828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629400" y="205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6934320" y="22096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7391520" y="274248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0102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08660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010280" y="1371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934320" y="251460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46748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46748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54380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391520" y="304812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8077320" y="38098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15328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229600" y="41911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077320" y="411480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153280" y="1371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153280" y="3352680"/>
            <a:ext cx="0" cy="381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8153280" y="3733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4872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077320" y="13716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24480" y="2057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0080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47712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781680" y="41911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172200" y="137160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5880" y="205740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95880" y="259092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172200" y="312408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324480" y="419112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0880" y="220968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38080" y="274320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373392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905120" y="160020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209680" y="21337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666880" y="25909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76720" y="37339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886200" y="16002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191120" y="21337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M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648320" y="26668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M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4120" y="37339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3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1371600"/>
            <a:ext cx="152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352680" y="1371600"/>
            <a:ext cx="152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10080" y="1371600"/>
            <a:ext cx="152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20120" y="137160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543800" y="38098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095880" y="16002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400800" y="21337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M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58000" y="26668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M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305920" y="1905120"/>
            <a:ext cx="22860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05920" y="2438280"/>
            <a:ext cx="22860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05920" y="2971800"/>
            <a:ext cx="22860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05920" y="4038480"/>
            <a:ext cx="22860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53452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53452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534520" y="3124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5345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9154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915400" y="3124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9154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91540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Filter bank of 128  4096-taps FIR filters, 40kHz trans.band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614" name="bandfilter_responses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703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Polyphase filter bank frequency sweep, including start-up effect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616" name="sweep_response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133360" y="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Polyphase filter bank frequency sweep, start-up effect discarde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618" name="sweep_response_corrected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ilter bank response short-coming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2364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rototype FIR filter, the transition band is far to wide (40 kHz instead of 3 k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-of-band signals, from the (wide) transition bands, alias into the sub-bands because of decimation; alternatively, by making the bands narrower, gaps occur between sub-b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905120" y="1519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Filter bank aliasing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622" name="filterbank_aliasing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78168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How to get a smaller transition band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381880" cy="4557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ition band of a FIR filter can be reduced, without increase of the computational complexity, by the use of IFIR methods (Interpolated F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tch the frequency response requirements by a factor K (multiply pass-band cut-off frequency and transition-band by factor 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 FIR filter H(z) meeting these relaxed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 the frequency band (construct H(z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) by adding K-1 zeros between successive impulse response coeffic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the K-1 resulting images of the response around frequencies n*Fs/K by a second filter G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lter resulting from cascading H(z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G(z) meets the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Interpolated FIR (= Frequency Response Masking)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609480" y="838080"/>
            <a:ext cx="2210040" cy="1295640"/>
            <a:chOff x="609480" y="838080"/>
            <a:chExt cx="2210040" cy="1295640"/>
          </a:xfrm>
        </p:grpSpPr>
        <p:sp>
          <p:nvSpPr>
            <p:cNvPr id="627" name=""/>
            <p:cNvSpPr/>
            <p:nvPr/>
          </p:nvSpPr>
          <p:spPr>
            <a:xfrm>
              <a:off x="609480" y="213372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09480" y="8380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09480" y="990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914400" y="990720"/>
              <a:ext cx="1522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4724280" y="21337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724280" y="838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724280" y="990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943600" y="99072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4876920" y="2590560"/>
            <a:ext cx="1676160" cy="761760"/>
            <a:chOff x="4876920" y="2590560"/>
            <a:chExt cx="1676160" cy="761760"/>
          </a:xfrm>
        </p:grpSpPr>
        <p:sp>
          <p:nvSpPr>
            <p:cNvPr id="636" name=""/>
            <p:cNvSpPr/>
            <p:nvPr/>
          </p:nvSpPr>
          <p:spPr>
            <a:xfrm>
              <a:off x="4876920" y="32256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5715000" y="2590560"/>
              <a:ext cx="837720" cy="761760"/>
              <a:chOff x="5715000" y="2590560"/>
              <a:chExt cx="837720" cy="761760"/>
            </a:xfrm>
          </p:grpSpPr>
          <p:sp>
            <p:nvSpPr>
              <p:cNvPr id="638" name=""/>
              <p:cNvSpPr/>
              <p:nvPr/>
            </p:nvSpPr>
            <p:spPr>
              <a:xfrm flipV="1">
                <a:off x="5715000" y="2590560"/>
                <a:ext cx="0" cy="63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5790600" y="2718000"/>
                <a:ext cx="0" cy="5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5866920" y="2908080"/>
                <a:ext cx="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5943240" y="3098880"/>
                <a:ext cx="0" cy="12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6095520" y="3225600"/>
                <a:ext cx="0" cy="12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6019200" y="3225600"/>
                <a:ext cx="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6171840" y="3225600"/>
                <a:ext cx="0" cy="12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6247800" y="3225600"/>
                <a:ext cx="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6324120" y="3162240"/>
                <a:ext cx="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6400440" y="3098880"/>
                <a:ext cx="0" cy="12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6476400" y="3162240"/>
                <a:ext cx="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552720" y="3225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 flipV="1">
              <a:off x="5638680" y="2718000"/>
              <a:ext cx="0" cy="50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5562360" y="2908080"/>
              <a:ext cx="0" cy="3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5486400" y="3098880"/>
              <a:ext cx="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5333760" y="3225600"/>
              <a:ext cx="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5410080" y="322560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5257800" y="3225600"/>
              <a:ext cx="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5181480" y="322560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5105160" y="316224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5029200" y="3098880"/>
              <a:ext cx="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4952880" y="316224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876920" y="3225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3048120" y="1600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90920" y="11430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tch K=4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52280" y="2819520"/>
            <a:ext cx="6705360" cy="1065960"/>
            <a:chOff x="152280" y="2819520"/>
            <a:chExt cx="6705360" cy="1065960"/>
          </a:xfrm>
        </p:grpSpPr>
        <p:grpSp>
          <p:nvGrpSpPr>
            <p:cNvPr id="664" name=""/>
            <p:cNvGrpSpPr/>
            <p:nvPr/>
          </p:nvGrpSpPr>
          <p:grpSpPr>
            <a:xfrm>
              <a:off x="152280" y="2819520"/>
              <a:ext cx="6704640" cy="1065960"/>
              <a:chOff x="152280" y="2819520"/>
              <a:chExt cx="6704640" cy="1065960"/>
            </a:xfrm>
          </p:grpSpPr>
          <p:sp>
            <p:nvSpPr>
              <p:cNvPr id="665" name=""/>
              <p:cNvSpPr/>
              <p:nvPr/>
            </p:nvSpPr>
            <p:spPr>
              <a:xfrm>
                <a:off x="152280" y="3708360"/>
                <a:ext cx="670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6" name=""/>
              <p:cNvGrpSpPr/>
              <p:nvPr/>
            </p:nvGrpSpPr>
            <p:grpSpPr>
              <a:xfrm>
                <a:off x="3505320" y="2819520"/>
                <a:ext cx="3350520" cy="1065600"/>
                <a:chOff x="3505320" y="2819520"/>
                <a:chExt cx="3350520" cy="1065600"/>
              </a:xfrm>
            </p:grpSpPr>
            <p:sp>
              <p:nvSpPr>
                <p:cNvPr id="667" name=""/>
                <p:cNvSpPr/>
                <p:nvPr/>
              </p:nvSpPr>
              <p:spPr>
                <a:xfrm flipV="1">
                  <a:off x="3505320" y="2819520"/>
                  <a:ext cx="0" cy="88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flipV="1">
                  <a:off x="3808800" y="2997360"/>
                  <a:ext cx="0" cy="71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flipV="1">
                  <a:off x="4114080" y="3263400"/>
                  <a:ext cx="0" cy="443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flipV="1">
                  <a:off x="4419000" y="3530160"/>
                  <a:ext cx="0" cy="17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 flipV="1">
                  <a:off x="5027760" y="3707640"/>
                  <a:ext cx="0" cy="17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 flipV="1">
                  <a:off x="4722840" y="3707640"/>
                  <a:ext cx="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 flipV="1">
                  <a:off x="5333040" y="3707640"/>
                  <a:ext cx="0" cy="17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 flipV="1">
                  <a:off x="5636520" y="3707640"/>
                  <a:ext cx="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V="1">
                  <a:off x="5941800" y="3618720"/>
                  <a:ext cx="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V="1">
                  <a:off x="6246720" y="3530160"/>
                  <a:ext cx="0" cy="17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flipV="1">
                  <a:off x="6550560" y="3618720"/>
                  <a:ext cx="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855840" y="370800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 flipV="1">
                <a:off x="3200040" y="2997360"/>
                <a:ext cx="0" cy="71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2894760" y="3264120"/>
                <a:ext cx="0" cy="44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2590920" y="3530520"/>
                <a:ext cx="0" cy="17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1980360" y="3708000"/>
                <a:ext cx="0" cy="17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2285640" y="370800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1676880" y="3708000"/>
                <a:ext cx="0" cy="17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1371600" y="370800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1066320" y="361908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762480" y="3530520"/>
                <a:ext cx="0" cy="17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457200" y="361908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522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457200" y="3708360"/>
              <a:ext cx="304560" cy="0"/>
              <a:chOff x="457200" y="3708360"/>
              <a:chExt cx="304560" cy="0"/>
            </a:xfrm>
          </p:grpSpPr>
          <p:sp>
            <p:nvSpPr>
              <p:cNvPr id="691" name=""/>
              <p:cNvSpPr/>
              <p:nvPr/>
            </p:nvSpPr>
            <p:spPr>
              <a:xfrm>
                <a:off x="4572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31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331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0948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8580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858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761760" y="3708360"/>
              <a:ext cx="304560" cy="0"/>
              <a:chOff x="761760" y="3708360"/>
              <a:chExt cx="304560" cy="0"/>
            </a:xfrm>
          </p:grpSpPr>
          <p:sp>
            <p:nvSpPr>
              <p:cNvPr id="698" name=""/>
              <p:cNvSpPr/>
              <p:nvPr/>
            </p:nvSpPr>
            <p:spPr>
              <a:xfrm>
                <a:off x="7617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3772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3772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140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9903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9903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1066680" y="3708360"/>
              <a:ext cx="304560" cy="0"/>
              <a:chOff x="1066680" y="3708360"/>
              <a:chExt cx="304560" cy="0"/>
            </a:xfrm>
          </p:grpSpPr>
          <p:sp>
            <p:nvSpPr>
              <p:cNvPr id="705" name=""/>
              <p:cNvSpPr/>
              <p:nvPr/>
            </p:nvSpPr>
            <p:spPr>
              <a:xfrm>
                <a:off x="10666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14264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1426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2189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2952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952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1371600" y="3708360"/>
              <a:ext cx="304560" cy="0"/>
              <a:chOff x="1371600" y="3708360"/>
              <a:chExt cx="304560" cy="0"/>
            </a:xfrm>
          </p:grpSpPr>
          <p:sp>
            <p:nvSpPr>
              <p:cNvPr id="712" name=""/>
              <p:cNvSpPr/>
              <p:nvPr/>
            </p:nvSpPr>
            <p:spPr>
              <a:xfrm>
                <a:off x="13716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475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475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52388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60020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6002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1676160" y="3708360"/>
              <a:ext cx="304560" cy="0"/>
              <a:chOff x="1676160" y="3708360"/>
              <a:chExt cx="304560" cy="0"/>
            </a:xfrm>
          </p:grpSpPr>
          <p:sp>
            <p:nvSpPr>
              <p:cNvPr id="719" name=""/>
              <p:cNvSpPr/>
              <p:nvPr/>
            </p:nvSpPr>
            <p:spPr>
              <a:xfrm>
                <a:off x="16761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75212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75212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8284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9047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9047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1981080" y="3708360"/>
              <a:ext cx="304560" cy="0"/>
              <a:chOff x="1981080" y="3708360"/>
              <a:chExt cx="304560" cy="0"/>
            </a:xfrm>
          </p:grpSpPr>
          <p:sp>
            <p:nvSpPr>
              <p:cNvPr id="726" name=""/>
              <p:cNvSpPr/>
              <p:nvPr/>
            </p:nvSpPr>
            <p:spPr>
              <a:xfrm>
                <a:off x="19810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05704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0570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1333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2096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2096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2286000" y="3708360"/>
              <a:ext cx="304560" cy="0"/>
              <a:chOff x="2286000" y="3708360"/>
              <a:chExt cx="304560" cy="0"/>
            </a:xfrm>
          </p:grpSpPr>
          <p:sp>
            <p:nvSpPr>
              <p:cNvPr id="733" name=""/>
              <p:cNvSpPr/>
              <p:nvPr/>
            </p:nvSpPr>
            <p:spPr>
              <a:xfrm>
                <a:off x="22860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3619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3619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43828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51460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5146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2590560" y="3708360"/>
              <a:ext cx="304560" cy="0"/>
              <a:chOff x="2590560" y="3708360"/>
              <a:chExt cx="304560" cy="0"/>
            </a:xfrm>
          </p:grpSpPr>
          <p:sp>
            <p:nvSpPr>
              <p:cNvPr id="740" name=""/>
              <p:cNvSpPr/>
              <p:nvPr/>
            </p:nvSpPr>
            <p:spPr>
              <a:xfrm>
                <a:off x="25905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66652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66652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7428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8191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8191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2895480" y="3708360"/>
              <a:ext cx="304560" cy="0"/>
              <a:chOff x="2895480" y="3708360"/>
              <a:chExt cx="304560" cy="0"/>
            </a:xfrm>
          </p:grpSpPr>
          <p:sp>
            <p:nvSpPr>
              <p:cNvPr id="747" name=""/>
              <p:cNvSpPr/>
              <p:nvPr/>
            </p:nvSpPr>
            <p:spPr>
              <a:xfrm>
                <a:off x="28954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97144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9714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477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1240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1240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3200400" y="3708360"/>
              <a:ext cx="304560" cy="0"/>
              <a:chOff x="3200400" y="3708360"/>
              <a:chExt cx="304560" cy="0"/>
            </a:xfrm>
          </p:grpSpPr>
          <p:sp>
            <p:nvSpPr>
              <p:cNvPr id="754" name=""/>
              <p:cNvSpPr/>
              <p:nvPr/>
            </p:nvSpPr>
            <p:spPr>
              <a:xfrm>
                <a:off x="32004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2763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2763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35268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42900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4290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3504960" y="3708360"/>
              <a:ext cx="304560" cy="0"/>
              <a:chOff x="3504960" y="3708360"/>
              <a:chExt cx="304560" cy="0"/>
            </a:xfrm>
          </p:grpSpPr>
          <p:sp>
            <p:nvSpPr>
              <p:cNvPr id="761" name=""/>
              <p:cNvSpPr/>
              <p:nvPr/>
            </p:nvSpPr>
            <p:spPr>
              <a:xfrm>
                <a:off x="35049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58092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58092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6572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7335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7335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3809880" y="3708360"/>
              <a:ext cx="304560" cy="0"/>
              <a:chOff x="3809880" y="3708360"/>
              <a:chExt cx="304560" cy="0"/>
            </a:xfrm>
          </p:grpSpPr>
          <p:sp>
            <p:nvSpPr>
              <p:cNvPr id="768" name=""/>
              <p:cNvSpPr/>
              <p:nvPr/>
            </p:nvSpPr>
            <p:spPr>
              <a:xfrm>
                <a:off x="38098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88584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858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9621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0384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384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4114800" y="3708360"/>
              <a:ext cx="304560" cy="0"/>
              <a:chOff x="4114800" y="3708360"/>
              <a:chExt cx="304560" cy="0"/>
            </a:xfrm>
          </p:grpSpPr>
          <p:sp>
            <p:nvSpPr>
              <p:cNvPr id="775" name=""/>
              <p:cNvSpPr/>
              <p:nvPr/>
            </p:nvSpPr>
            <p:spPr>
              <a:xfrm>
                <a:off x="41148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1907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1907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26708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34340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3434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4419360" y="3708360"/>
              <a:ext cx="304560" cy="0"/>
              <a:chOff x="4419360" y="3708360"/>
              <a:chExt cx="304560" cy="0"/>
            </a:xfrm>
          </p:grpSpPr>
          <p:sp>
            <p:nvSpPr>
              <p:cNvPr id="782" name=""/>
              <p:cNvSpPr/>
              <p:nvPr/>
            </p:nvSpPr>
            <p:spPr>
              <a:xfrm>
                <a:off x="44193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49532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49532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5716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6479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6479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4724280" y="3708360"/>
              <a:ext cx="304560" cy="0"/>
              <a:chOff x="4724280" y="3708360"/>
              <a:chExt cx="304560" cy="0"/>
            </a:xfrm>
          </p:grpSpPr>
          <p:sp>
            <p:nvSpPr>
              <p:cNvPr id="789" name=""/>
              <p:cNvSpPr/>
              <p:nvPr/>
            </p:nvSpPr>
            <p:spPr>
              <a:xfrm>
                <a:off x="47242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80024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8002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8765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9528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9528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5029200" y="3708360"/>
              <a:ext cx="304560" cy="0"/>
              <a:chOff x="5029200" y="3708360"/>
              <a:chExt cx="304560" cy="0"/>
            </a:xfrm>
          </p:grpSpPr>
          <p:sp>
            <p:nvSpPr>
              <p:cNvPr id="796" name=""/>
              <p:cNvSpPr/>
              <p:nvPr/>
            </p:nvSpPr>
            <p:spPr>
              <a:xfrm>
                <a:off x="50292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1051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1051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18148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25780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2578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333760" y="3708360"/>
              <a:ext cx="304560" cy="0"/>
              <a:chOff x="5333760" y="3708360"/>
              <a:chExt cx="304560" cy="0"/>
            </a:xfrm>
          </p:grpSpPr>
          <p:sp>
            <p:nvSpPr>
              <p:cNvPr id="803" name=""/>
              <p:cNvSpPr/>
              <p:nvPr/>
            </p:nvSpPr>
            <p:spPr>
              <a:xfrm>
                <a:off x="53337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40972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40972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4860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5623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5623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638680" y="3708360"/>
              <a:ext cx="304560" cy="0"/>
              <a:chOff x="5638680" y="3708360"/>
              <a:chExt cx="304560" cy="0"/>
            </a:xfrm>
          </p:grpSpPr>
          <p:sp>
            <p:nvSpPr>
              <p:cNvPr id="810" name=""/>
              <p:cNvSpPr/>
              <p:nvPr/>
            </p:nvSpPr>
            <p:spPr>
              <a:xfrm>
                <a:off x="56386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71464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7146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7909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8672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8672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5943600" y="3708360"/>
              <a:ext cx="304560" cy="0"/>
              <a:chOff x="5943600" y="3708360"/>
              <a:chExt cx="304560" cy="0"/>
            </a:xfrm>
          </p:grpSpPr>
          <p:sp>
            <p:nvSpPr>
              <p:cNvPr id="817" name=""/>
              <p:cNvSpPr/>
              <p:nvPr/>
            </p:nvSpPr>
            <p:spPr>
              <a:xfrm>
                <a:off x="59436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0195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0195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9588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17220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1722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6248160" y="3708360"/>
              <a:ext cx="304560" cy="0"/>
              <a:chOff x="6248160" y="3708360"/>
              <a:chExt cx="304560" cy="0"/>
            </a:xfrm>
          </p:grpSpPr>
          <p:sp>
            <p:nvSpPr>
              <p:cNvPr id="824" name=""/>
              <p:cNvSpPr/>
              <p:nvPr/>
            </p:nvSpPr>
            <p:spPr>
              <a:xfrm>
                <a:off x="62481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32412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32412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004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4767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767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6553080" y="3708360"/>
              <a:ext cx="304560" cy="0"/>
              <a:chOff x="6553080" y="3708360"/>
              <a:chExt cx="304560" cy="0"/>
            </a:xfrm>
          </p:grpSpPr>
          <p:sp>
            <p:nvSpPr>
              <p:cNvPr id="831" name=""/>
              <p:cNvSpPr/>
              <p:nvPr/>
            </p:nvSpPr>
            <p:spPr>
              <a:xfrm>
                <a:off x="65530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62904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0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7053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7816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7816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152280" y="3708360"/>
              <a:ext cx="304560" cy="0"/>
              <a:chOff x="152280" y="3708360"/>
              <a:chExt cx="304560" cy="0"/>
            </a:xfrm>
          </p:grpSpPr>
          <p:sp>
            <p:nvSpPr>
              <p:cNvPr id="838" name=""/>
              <p:cNvSpPr/>
              <p:nvPr/>
            </p:nvSpPr>
            <p:spPr>
              <a:xfrm>
                <a:off x="1522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2824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2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5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808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808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4" name=""/>
          <p:cNvSpPr/>
          <p:nvPr/>
        </p:nvSpPr>
        <p:spPr>
          <a:xfrm>
            <a:off x="563868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715000" y="2209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FIR H(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H="1">
            <a:off x="4038480" y="289548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28600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143000" y="990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66680" y="1143000"/>
            <a:ext cx="1219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op-b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ten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14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14400" y="99072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" y="21337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ition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962520" y="2514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ert z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62120" y="487692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95480" y="4952880"/>
            <a:ext cx="83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533520" y="4038480"/>
            <a:ext cx="5105160" cy="914400"/>
            <a:chOff x="533520" y="4038480"/>
            <a:chExt cx="5105160" cy="914400"/>
          </a:xfrm>
        </p:grpSpPr>
        <p:sp>
          <p:nvSpPr>
            <p:cNvPr id="857" name=""/>
            <p:cNvSpPr/>
            <p:nvPr/>
          </p:nvSpPr>
          <p:spPr>
            <a:xfrm>
              <a:off x="533520" y="495288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866160" y="4038480"/>
              <a:ext cx="2330280" cy="914400"/>
              <a:chOff x="866160" y="4038480"/>
              <a:chExt cx="2330280" cy="914400"/>
            </a:xfrm>
          </p:grpSpPr>
          <p:grpSp>
            <p:nvGrpSpPr>
              <p:cNvPr id="859" name=""/>
              <p:cNvGrpSpPr/>
              <p:nvPr/>
            </p:nvGrpSpPr>
            <p:grpSpPr>
              <a:xfrm>
                <a:off x="1698120" y="4038480"/>
                <a:ext cx="665640" cy="914400"/>
                <a:chOff x="1698120" y="4038480"/>
                <a:chExt cx="665640" cy="91440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1698480" y="45759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2031120" y="40384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031120" y="4145760"/>
                  <a:ext cx="22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253240" y="4145760"/>
                  <a:ext cx="110520" cy="80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031120" y="40384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>
                  <a:off x="1809000" y="4145760"/>
                  <a:ext cx="22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>
                  <a:off x="1698120" y="4145760"/>
                  <a:ext cx="110520" cy="80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7" name=""/>
              <p:cNvGrpSpPr/>
              <p:nvPr/>
            </p:nvGrpSpPr>
            <p:grpSpPr>
              <a:xfrm>
                <a:off x="2863800" y="4038480"/>
                <a:ext cx="332640" cy="914400"/>
                <a:chOff x="2863800" y="4038480"/>
                <a:chExt cx="332640" cy="91440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2863800" y="45759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3196440" y="40384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3196440" y="40384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H="1">
                  <a:off x="2974320" y="4145760"/>
                  <a:ext cx="22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H="1">
                  <a:off x="2863800" y="4145760"/>
                  <a:ext cx="110880" cy="80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3" name=""/>
              <p:cNvGrpSpPr/>
              <p:nvPr/>
            </p:nvGrpSpPr>
            <p:grpSpPr>
              <a:xfrm>
                <a:off x="866160" y="4038480"/>
                <a:ext cx="332640" cy="914400"/>
                <a:chOff x="866160" y="4038480"/>
                <a:chExt cx="332640" cy="91440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1198800" y="45759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866160" y="40384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866160" y="40384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866880" y="4145760"/>
                  <a:ext cx="22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1087920" y="4145760"/>
                  <a:ext cx="110880" cy="80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9" name=""/>
            <p:cNvGrpSpPr/>
            <p:nvPr/>
          </p:nvGrpSpPr>
          <p:grpSpPr>
            <a:xfrm>
              <a:off x="3197160" y="4038480"/>
              <a:ext cx="2330280" cy="914400"/>
              <a:chOff x="3197160" y="4038480"/>
              <a:chExt cx="2330280" cy="914400"/>
            </a:xfrm>
          </p:grpSpPr>
          <p:grpSp>
            <p:nvGrpSpPr>
              <p:cNvPr id="880" name=""/>
              <p:cNvGrpSpPr/>
              <p:nvPr/>
            </p:nvGrpSpPr>
            <p:grpSpPr>
              <a:xfrm>
                <a:off x="4029120" y="4038480"/>
                <a:ext cx="665640" cy="914400"/>
                <a:chOff x="4029120" y="4038480"/>
                <a:chExt cx="665640" cy="91440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4029480" y="45759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4362120" y="403848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4362120" y="4145760"/>
                  <a:ext cx="221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4584240" y="4145760"/>
                  <a:ext cx="110520" cy="806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4362120" y="403848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H="1">
                  <a:off x="4140000" y="4145760"/>
                  <a:ext cx="221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flipH="1">
                  <a:off x="4029120" y="4145760"/>
                  <a:ext cx="110520" cy="806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8" name=""/>
              <p:cNvGrpSpPr/>
              <p:nvPr/>
            </p:nvGrpSpPr>
            <p:grpSpPr>
              <a:xfrm>
                <a:off x="5194800" y="4038480"/>
                <a:ext cx="332640" cy="914400"/>
                <a:chOff x="5194800" y="4038480"/>
                <a:chExt cx="332640" cy="91440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5194800" y="45759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5527440" y="403848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5527440" y="403848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H="1">
                  <a:off x="5305320" y="4145760"/>
                  <a:ext cx="22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H="1">
                  <a:off x="5194800" y="4145760"/>
                  <a:ext cx="110880" cy="806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4" name=""/>
              <p:cNvGrpSpPr/>
              <p:nvPr/>
            </p:nvGrpSpPr>
            <p:grpSpPr>
              <a:xfrm>
                <a:off x="3197160" y="4038480"/>
                <a:ext cx="332640" cy="914400"/>
                <a:chOff x="3197160" y="4038480"/>
                <a:chExt cx="332640" cy="914400"/>
              </a:xfrm>
            </p:grpSpPr>
            <p:sp>
              <p:nvSpPr>
                <p:cNvPr id="895" name=""/>
                <p:cNvSpPr/>
                <p:nvPr/>
              </p:nvSpPr>
              <p:spPr>
                <a:xfrm>
                  <a:off x="3529800" y="45759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3197160" y="403848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197160" y="403848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197880" y="4145760"/>
                  <a:ext cx="22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418920" y="4145760"/>
                  <a:ext cx="110880" cy="806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00" name=""/>
          <p:cNvSpPr/>
          <p:nvPr/>
        </p:nvSpPr>
        <p:spPr>
          <a:xfrm>
            <a:off x="5410080" y="487692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33520" y="624852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866880" y="5334120"/>
            <a:ext cx="333720" cy="914400"/>
            <a:chOff x="866880" y="5334120"/>
            <a:chExt cx="333720" cy="914400"/>
          </a:xfrm>
        </p:grpSpPr>
        <p:sp>
          <p:nvSpPr>
            <p:cNvPr id="903" name=""/>
            <p:cNvSpPr/>
            <p:nvPr/>
          </p:nvSpPr>
          <p:spPr>
            <a:xfrm>
              <a:off x="1200240" y="5871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66880" y="5334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66880" y="5334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67240" y="5441400"/>
              <a:ext cx="22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9360" y="5441400"/>
              <a:ext cx="111240" cy="80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5194080" y="5334120"/>
            <a:ext cx="333720" cy="914400"/>
            <a:chOff x="5194080" y="5334120"/>
            <a:chExt cx="333720" cy="914400"/>
          </a:xfrm>
        </p:grpSpPr>
        <p:sp>
          <p:nvSpPr>
            <p:cNvPr id="909" name=""/>
            <p:cNvSpPr/>
            <p:nvPr/>
          </p:nvSpPr>
          <p:spPr>
            <a:xfrm>
              <a:off x="5194440" y="5871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527800" y="5334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527800" y="5334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5305320" y="5441400"/>
              <a:ext cx="222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5194080" y="5441400"/>
              <a:ext cx="111240" cy="806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4" name=""/>
          <p:cNvSpPr/>
          <p:nvPr/>
        </p:nvSpPr>
        <p:spPr>
          <a:xfrm>
            <a:off x="5867280" y="41911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equency transfer function of H(z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and interpolation FIR G(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838080" y="4102200"/>
            <a:ext cx="2362320" cy="852480"/>
            <a:chOff x="838080" y="4102200"/>
            <a:chExt cx="2362320" cy="852480"/>
          </a:xfrm>
        </p:grpSpPr>
        <p:sp>
          <p:nvSpPr>
            <p:cNvPr id="916" name=""/>
            <p:cNvSpPr/>
            <p:nvPr/>
          </p:nvSpPr>
          <p:spPr>
            <a:xfrm>
              <a:off x="838080" y="4102200"/>
              <a:ext cx="838440" cy="850680"/>
            </a:xfrm>
            <a:custGeom>
              <a:avLst/>
              <a:gdLst/>
              <a:ahLst/>
              <a:rect l="l" t="t" r="r" b="b"/>
              <a:pathLst>
                <a:path w="432" h="680">
                  <a:moveTo>
                    <a:pt x="0" y="8"/>
                  </a:moveTo>
                  <a:cubicBezTo>
                    <a:pt x="56" y="8"/>
                    <a:pt x="112" y="8"/>
                    <a:pt x="144" y="8"/>
                  </a:cubicBezTo>
                  <a:cubicBezTo>
                    <a:pt x="176" y="8"/>
                    <a:pt x="176" y="0"/>
                    <a:pt x="192" y="8"/>
                  </a:cubicBezTo>
                  <a:cubicBezTo>
                    <a:pt x="208" y="16"/>
                    <a:pt x="224" y="32"/>
                    <a:pt x="240" y="56"/>
                  </a:cubicBezTo>
                  <a:cubicBezTo>
                    <a:pt x="256" y="80"/>
                    <a:pt x="272" y="112"/>
                    <a:pt x="288" y="152"/>
                  </a:cubicBezTo>
                  <a:cubicBezTo>
                    <a:pt x="304" y="192"/>
                    <a:pt x="320" y="232"/>
                    <a:pt x="336" y="296"/>
                  </a:cubicBezTo>
                  <a:cubicBezTo>
                    <a:pt x="352" y="360"/>
                    <a:pt x="368" y="472"/>
                    <a:pt x="384" y="536"/>
                  </a:cubicBezTo>
                  <a:cubicBezTo>
                    <a:pt x="400" y="600"/>
                    <a:pt x="416" y="656"/>
                    <a:pt x="432" y="680"/>
                  </a:cubicBezTo>
                </a:path>
              </a:pathLst>
            </a:custGeom>
            <a:noFill/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676520" y="4952880"/>
              <a:ext cx="1523880" cy="1800"/>
            </a:xfrm>
            <a:custGeom>
              <a:avLst/>
              <a:gdLst/>
              <a:ahLst/>
              <a:rect l="l" t="t" r="r" b="b"/>
              <a:pathLst>
                <a:path w="960" h="1">
                  <a:moveTo>
                    <a:pt x="0" y="0"/>
                  </a:moveTo>
                  <a:cubicBezTo>
                    <a:pt x="400" y="0"/>
                    <a:pt x="800" y="0"/>
                    <a:pt x="960" y="0"/>
                  </a:cubicBezTo>
                </a:path>
              </a:pathLst>
            </a:custGeom>
            <a:noFill/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3200400" y="4100400"/>
            <a:ext cx="2362320" cy="852480"/>
            <a:chOff x="3200400" y="4100400"/>
            <a:chExt cx="2362320" cy="852480"/>
          </a:xfrm>
        </p:grpSpPr>
        <p:sp>
          <p:nvSpPr>
            <p:cNvPr id="919" name=""/>
            <p:cNvSpPr/>
            <p:nvPr/>
          </p:nvSpPr>
          <p:spPr>
            <a:xfrm flipH="1">
              <a:off x="4723920" y="4100400"/>
              <a:ext cx="838440" cy="850680"/>
            </a:xfrm>
            <a:custGeom>
              <a:avLst/>
              <a:gdLst/>
              <a:ahLst/>
              <a:rect l="l" t="t" r="r" b="b"/>
              <a:pathLst>
                <a:path w="432" h="680">
                  <a:moveTo>
                    <a:pt x="0" y="8"/>
                  </a:moveTo>
                  <a:cubicBezTo>
                    <a:pt x="56" y="8"/>
                    <a:pt x="112" y="8"/>
                    <a:pt x="144" y="8"/>
                  </a:cubicBezTo>
                  <a:cubicBezTo>
                    <a:pt x="176" y="8"/>
                    <a:pt x="176" y="0"/>
                    <a:pt x="192" y="8"/>
                  </a:cubicBezTo>
                  <a:cubicBezTo>
                    <a:pt x="208" y="16"/>
                    <a:pt x="224" y="32"/>
                    <a:pt x="240" y="56"/>
                  </a:cubicBezTo>
                  <a:cubicBezTo>
                    <a:pt x="256" y="80"/>
                    <a:pt x="272" y="112"/>
                    <a:pt x="288" y="152"/>
                  </a:cubicBezTo>
                  <a:cubicBezTo>
                    <a:pt x="304" y="192"/>
                    <a:pt x="320" y="232"/>
                    <a:pt x="336" y="296"/>
                  </a:cubicBezTo>
                  <a:cubicBezTo>
                    <a:pt x="352" y="360"/>
                    <a:pt x="368" y="472"/>
                    <a:pt x="384" y="536"/>
                  </a:cubicBezTo>
                  <a:cubicBezTo>
                    <a:pt x="400" y="600"/>
                    <a:pt x="416" y="656"/>
                    <a:pt x="432" y="680"/>
                  </a:cubicBezTo>
                </a:path>
              </a:pathLst>
            </a:custGeom>
            <a:noFill/>
            <a:ln cap="rnd" w="28440">
              <a:solidFill>
                <a:srgbClr val="00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3200040" y="4951080"/>
              <a:ext cx="1523880" cy="1800"/>
            </a:xfrm>
            <a:custGeom>
              <a:avLst/>
              <a:gdLst/>
              <a:ahLst/>
              <a:rect l="l" t="t" r="r" b="b"/>
              <a:pathLst>
                <a:path w="960" h="1">
                  <a:moveTo>
                    <a:pt x="0" y="0"/>
                  </a:moveTo>
                  <a:cubicBezTo>
                    <a:pt x="400" y="0"/>
                    <a:pt x="800" y="0"/>
                    <a:pt x="960" y="0"/>
                  </a:cubicBezTo>
                </a:path>
              </a:pathLst>
            </a:custGeom>
            <a:noFill/>
            <a:ln cap="rnd" w="28440">
              <a:solidFill>
                <a:srgbClr val="00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5410080" y="617220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200400" y="5410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943600" y="54100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equency transfer function of cascade H(z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G(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39625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G(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172200" y="27432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(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86000" y="3124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(z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981080" y="38862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b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Interpolated FIR design of prototype filter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381880" cy="523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current ADD requirements in mind, the prototype FIR low-pass filter was designed using the IFIR method (a.k.a. the Frequency Response Masking (FRM) meth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olation factor K=32 was opt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requirements were met except temporal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(z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with 2959 non-zero ta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(z) with 188 t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rect-form realization of total filter H(z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G(z) in 1 section would have 94844 ta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mporal depth = 94844 / 64e6 = 1.5 msec (&gt; 0.2 m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wo cascaded sections H(z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and G(z) result in 2959+188=3147 non-zero taps, so arithmetic complexity is reduced by a factor 94844/3147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30 as compared to single-section direct-form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ilter requirements 1</a:t>
            </a:r>
            <a:r>
              <a:rPr b="1" lang="en-US" sz="2800" spc="-1" strike="noStrike" baseline="30000">
                <a:solidFill>
                  <a:srgbClr val="5f5f5f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 filter-bank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0880" y="1905120"/>
          <a:ext cx="8382240" cy="4425840"/>
        </p:xfrm>
        <a:graphic>
          <a:graphicData uri="http://schemas.openxmlformats.org/drawingml/2006/table">
            <a:tbl>
              <a:tblPr/>
              <a:tblGrid>
                <a:gridCol w="2819520"/>
                <a:gridCol w="1219320"/>
                <a:gridCol w="3124080"/>
                <a:gridCol w="1219320"/>
              </a:tblGrid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ter qu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ter 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-band atten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75 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 filter 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-band rip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0.0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ub-b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-band rip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0.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ter window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c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tion b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3 k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filter 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oral dep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0.2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tion factor (critical sampl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 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/ 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304920" y="9144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: </a:t>
            </a:r>
            <a:r>
              <a:rPr b="1" lang="en-US" sz="2400" spc="-1" strike="noStrike">
                <a:solidFill>
                  <a:srgbClr val="000000"/>
                </a:solidFill>
                <a:latin typeface="ComicSansMS,Bold"/>
              </a:rPr>
              <a:t>LOFAR Architectural Design Document</a:t>
            </a:r>
            <a:r>
              <a:rPr b="0" lang="en-US" sz="2400" spc="-1" strike="noStrike">
                <a:solidFill>
                  <a:srgbClr val="000000"/>
                </a:solidFill>
                <a:latin typeface="ComicSansMS,Bold"/>
              </a:rPr>
              <a:t>, Rev. 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45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IFIR implementation of prototype (whole range)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IFIR implementation of prototype (zoomed in)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IFIR implementation of prototype (zoomed in 2)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IFIR implementation of prototype (zoomed in 3)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Where do we stand now?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33160" y="761760"/>
            <a:ext cx="8381880" cy="5524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ur problem solved now? Not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e include this IFIR solution in a polyphase-like filter-band structure to reduce complexity? We don’t want to implement 128 separate filt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z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z) with a total of 128 x 3147 = 402816 taps operating at 64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we find a polyphase-like structure which eliminates the sub-band aliasing? Maybe the solution is to us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ine-Modulated Filter Bank (CMFB) combined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quency-Response Masking (FRM)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is a lot of (recently appeared - 2002, 2003) literature to be found on this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 also the schematic on the next slide, fr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nnéa Rosenbaum, Per Löwenborg, Håkan Johans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ulated M-channel FIR filter banks utilizing the Frequency Response Masking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CAS’02 (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EEE International Symposium on Circuits and Systems, 26-29 May 2002,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Scottsdale, Arizona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should we resort to IIR filters (and give up linear phase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077320" cy="5562360"/>
          </a:xfrm>
          <a:prstGeom prst="rect">
            <a:avLst/>
          </a:prstGeom>
          <a:ln w="0">
            <a:noFill/>
          </a:ln>
        </p:spPr>
      </p:pic>
      <p:pic>
        <p:nvPicPr>
          <p:cNvPr id="941" name="" descr=""/>
          <p:cNvPicPr/>
          <p:nvPr/>
        </p:nvPicPr>
        <p:blipFill>
          <a:blip r:embed="rId2"/>
          <a:stretch/>
        </p:blipFill>
        <p:spPr>
          <a:xfrm>
            <a:off x="1704960" y="0"/>
            <a:ext cx="7439040" cy="48564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6858000" y="2286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Rosenbaum et al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629400" cy="45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Oversampled Modulated Filter Bank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6248520" cy="170820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0" y="2743200"/>
            <a:ext cx="8839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S. Weiss, </a:t>
            </a:r>
            <a:r>
              <a:rPr b="0" lang="sv-SE" sz="1600" spc="-1" strike="noStrike" u="sng">
                <a:solidFill>
                  <a:srgbClr val="0059b8"/>
                </a:solidFill>
                <a:uFillTx/>
                <a:latin typeface="Times New Roman"/>
                <a:hlinkClick r:id="rId2"/>
              </a:rPr>
              <a:t>Analysis and Fast Implementation of Oversampled Modulated Filter Banks.</a:t>
            </a: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 In John G McWhirter and Ian K. Proudler (eds.): Mathematics in Signal Processing V, IMA, pp.263-274, 2001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S. Weiss and R.W. Stewart, </a:t>
            </a:r>
            <a:r>
              <a:rPr b="0" lang="sv-SE" sz="1600" spc="-1" strike="noStrike" u="sng">
                <a:solidFill>
                  <a:srgbClr val="0059b8"/>
                </a:solidFill>
                <a:uFillTx/>
                <a:latin typeface="Times New Roman"/>
                <a:hlinkClick r:id="rId3"/>
              </a:rPr>
              <a:t>Fast Implementation of Oversampled Modulated Filter Banks.</a:t>
            </a: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 IEE Electronics Letters, Vol.36(No.17): pp.1502-1503, August 200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S. Weiss and R.W. Stewart, </a:t>
            </a:r>
            <a:r>
              <a:rPr b="0" lang="sv-SE" sz="1600" spc="-1" strike="noStrike" u="sng">
                <a:solidFill>
                  <a:srgbClr val="0059b8"/>
                </a:solidFill>
                <a:uFillTx/>
                <a:latin typeface="Times New Roman"/>
                <a:hlinkClick r:id="rId4"/>
              </a:rPr>
              <a:t>On Adaptive Filtering in Oversampled Subbands.</a:t>
            </a: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 Volume 8 in series: Berichte aus der Kommunikations- und Informationstechnik (eds. B. Girod and J. Huber). Shaker Verlag, Aachen, 1998 (ISBN 3-8265-4566-4), 213 pa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219320" y="2438280"/>
            <a:ext cx="56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5"/>
              </a:rPr>
              <a:t>http://www.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6"/>
              </a:rPr>
              <a:t>ecs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8"/>
              </a:rPr>
              <a:t>soton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9"/>
              </a:rPr>
              <a:t>.ac.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10"/>
              </a:rPr>
              <a:t>uk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11"/>
              </a:rPr>
              <a:t>/~sw1/software/software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629400" cy="45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Oversampled Modulated Filter Bank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267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main purpose of oversampling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is help us to realize a filter-bank with narrow transition bands (steep filters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maintaining low computational complex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ther words, is this what we are looking f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following two slides it might be conclude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improvement is obtained in the transition band width since the slope of the sub-band is just as steep as that of the prototyp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lexity required to achieve a certain slope (75dB/3kHz) is still extremely high since the number of non-zero taps was not reduced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678168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osine modulated filter bank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50" name="GDFTSweepTestOut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391520" cy="337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Oversampled modulated filter bank, prototype vs. subband response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52" name="Proto448&amp;sweep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ilter requirement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18288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25780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5146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2286000"/>
            <a:ext cx="0" cy="3048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4724280"/>
            <a:ext cx="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724280"/>
            <a:ext cx="6781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362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2362320"/>
            <a:ext cx="3733920" cy="2971800"/>
          </a:xfrm>
          <a:custGeom>
            <a:avLst/>
            <a:gdLst/>
            <a:ahLst/>
            <a:rect l="l" t="t" r="r" b="b"/>
            <a:pathLst>
              <a:path w="2352" h="1872">
                <a:moveTo>
                  <a:pt x="0" y="96"/>
                </a:moveTo>
                <a:cubicBezTo>
                  <a:pt x="28" y="76"/>
                  <a:pt x="56" y="56"/>
                  <a:pt x="96" y="48"/>
                </a:cubicBezTo>
                <a:cubicBezTo>
                  <a:pt x="136" y="40"/>
                  <a:pt x="208" y="40"/>
                  <a:pt x="240" y="48"/>
                </a:cubicBezTo>
                <a:cubicBezTo>
                  <a:pt x="272" y="56"/>
                  <a:pt x="264" y="80"/>
                  <a:pt x="288" y="96"/>
                </a:cubicBezTo>
                <a:cubicBezTo>
                  <a:pt x="312" y="112"/>
                  <a:pt x="360" y="136"/>
                  <a:pt x="384" y="144"/>
                </a:cubicBezTo>
                <a:cubicBezTo>
                  <a:pt x="408" y="152"/>
                  <a:pt x="408" y="152"/>
                  <a:pt x="432" y="144"/>
                </a:cubicBezTo>
                <a:cubicBezTo>
                  <a:pt x="456" y="136"/>
                  <a:pt x="504" y="112"/>
                  <a:pt x="528" y="96"/>
                </a:cubicBezTo>
                <a:cubicBezTo>
                  <a:pt x="552" y="80"/>
                  <a:pt x="552" y="64"/>
                  <a:pt x="576" y="48"/>
                </a:cubicBezTo>
                <a:cubicBezTo>
                  <a:pt x="600" y="32"/>
                  <a:pt x="640" y="0"/>
                  <a:pt x="672" y="0"/>
                </a:cubicBezTo>
                <a:cubicBezTo>
                  <a:pt x="704" y="0"/>
                  <a:pt x="736" y="32"/>
                  <a:pt x="768" y="48"/>
                </a:cubicBezTo>
                <a:cubicBezTo>
                  <a:pt x="800" y="64"/>
                  <a:pt x="840" y="72"/>
                  <a:pt x="864" y="96"/>
                </a:cubicBezTo>
                <a:cubicBezTo>
                  <a:pt x="888" y="120"/>
                  <a:pt x="896" y="136"/>
                  <a:pt x="912" y="192"/>
                </a:cubicBezTo>
                <a:cubicBezTo>
                  <a:pt x="928" y="248"/>
                  <a:pt x="936" y="328"/>
                  <a:pt x="960" y="432"/>
                </a:cubicBezTo>
                <a:cubicBezTo>
                  <a:pt x="984" y="536"/>
                  <a:pt x="1016" y="648"/>
                  <a:pt x="1056" y="816"/>
                </a:cubicBezTo>
                <a:cubicBezTo>
                  <a:pt x="1096" y="984"/>
                  <a:pt x="1176" y="1280"/>
                  <a:pt x="1200" y="1440"/>
                </a:cubicBezTo>
                <a:cubicBezTo>
                  <a:pt x="1224" y="1600"/>
                  <a:pt x="1200" y="1712"/>
                  <a:pt x="1200" y="1776"/>
                </a:cubicBezTo>
                <a:cubicBezTo>
                  <a:pt x="1200" y="1840"/>
                  <a:pt x="1184" y="1872"/>
                  <a:pt x="1200" y="1824"/>
                </a:cubicBezTo>
                <a:cubicBezTo>
                  <a:pt x="1216" y="1776"/>
                  <a:pt x="1272" y="1496"/>
                  <a:pt x="1296" y="1488"/>
                </a:cubicBezTo>
                <a:cubicBezTo>
                  <a:pt x="1320" y="1480"/>
                  <a:pt x="1336" y="1720"/>
                  <a:pt x="1344" y="1776"/>
                </a:cubicBezTo>
                <a:cubicBezTo>
                  <a:pt x="1352" y="1832"/>
                  <a:pt x="1328" y="1872"/>
                  <a:pt x="1344" y="1824"/>
                </a:cubicBezTo>
                <a:cubicBezTo>
                  <a:pt x="1360" y="1776"/>
                  <a:pt x="1416" y="1504"/>
                  <a:pt x="1440" y="1488"/>
                </a:cubicBezTo>
                <a:cubicBezTo>
                  <a:pt x="1464" y="1472"/>
                  <a:pt x="1480" y="1672"/>
                  <a:pt x="1488" y="1728"/>
                </a:cubicBezTo>
                <a:cubicBezTo>
                  <a:pt x="1496" y="1784"/>
                  <a:pt x="1480" y="1856"/>
                  <a:pt x="1488" y="1824"/>
                </a:cubicBezTo>
                <a:cubicBezTo>
                  <a:pt x="1496" y="1792"/>
                  <a:pt x="1512" y="1576"/>
                  <a:pt x="1536" y="1536"/>
                </a:cubicBezTo>
                <a:cubicBezTo>
                  <a:pt x="1560" y="1496"/>
                  <a:pt x="1616" y="1536"/>
                  <a:pt x="1632" y="1584"/>
                </a:cubicBezTo>
                <a:cubicBezTo>
                  <a:pt x="1648" y="1632"/>
                  <a:pt x="1624" y="1816"/>
                  <a:pt x="1632" y="1824"/>
                </a:cubicBezTo>
                <a:cubicBezTo>
                  <a:pt x="1640" y="1832"/>
                  <a:pt x="1656" y="1680"/>
                  <a:pt x="1680" y="1632"/>
                </a:cubicBezTo>
                <a:cubicBezTo>
                  <a:pt x="1704" y="1584"/>
                  <a:pt x="1752" y="1536"/>
                  <a:pt x="1776" y="1536"/>
                </a:cubicBezTo>
                <a:cubicBezTo>
                  <a:pt x="1800" y="1536"/>
                  <a:pt x="1816" y="1584"/>
                  <a:pt x="1824" y="1632"/>
                </a:cubicBezTo>
                <a:cubicBezTo>
                  <a:pt x="1832" y="1680"/>
                  <a:pt x="1816" y="1832"/>
                  <a:pt x="1824" y="1824"/>
                </a:cubicBezTo>
                <a:cubicBezTo>
                  <a:pt x="1832" y="1816"/>
                  <a:pt x="1848" y="1632"/>
                  <a:pt x="1872" y="1584"/>
                </a:cubicBezTo>
                <a:cubicBezTo>
                  <a:pt x="1896" y="1536"/>
                  <a:pt x="1944" y="1512"/>
                  <a:pt x="1968" y="1536"/>
                </a:cubicBezTo>
                <a:cubicBezTo>
                  <a:pt x="1992" y="1560"/>
                  <a:pt x="2008" y="1680"/>
                  <a:pt x="2016" y="1728"/>
                </a:cubicBezTo>
                <a:cubicBezTo>
                  <a:pt x="2024" y="1776"/>
                  <a:pt x="2008" y="1856"/>
                  <a:pt x="2016" y="1824"/>
                </a:cubicBezTo>
                <a:cubicBezTo>
                  <a:pt x="2024" y="1792"/>
                  <a:pt x="2040" y="1584"/>
                  <a:pt x="2064" y="1536"/>
                </a:cubicBezTo>
                <a:cubicBezTo>
                  <a:pt x="2088" y="1488"/>
                  <a:pt x="2136" y="1512"/>
                  <a:pt x="2160" y="1536"/>
                </a:cubicBezTo>
                <a:cubicBezTo>
                  <a:pt x="2184" y="1560"/>
                  <a:pt x="2200" y="1632"/>
                  <a:pt x="2208" y="1680"/>
                </a:cubicBezTo>
                <a:cubicBezTo>
                  <a:pt x="2216" y="1728"/>
                  <a:pt x="2200" y="1832"/>
                  <a:pt x="2208" y="1824"/>
                </a:cubicBezTo>
                <a:cubicBezTo>
                  <a:pt x="2216" y="1816"/>
                  <a:pt x="2232" y="1680"/>
                  <a:pt x="2256" y="1632"/>
                </a:cubicBezTo>
                <a:cubicBezTo>
                  <a:pt x="2280" y="1584"/>
                  <a:pt x="2316" y="1560"/>
                  <a:pt x="2352" y="15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5257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p-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5334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-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2514600" y="5257800"/>
            <a:ext cx="152640" cy="457200"/>
          </a:xfrm>
          <a:custGeom>
            <a:avLst/>
            <a:gdLst>
              <a:gd name="textAreaLeft" fmla="*/ 97560 w 152640"/>
              <a:gd name="textAreaRight" fmla="*/ 153000 w 15264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5715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ition-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21337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-band rip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838080" y="2362320"/>
            <a:ext cx="1905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38080" y="2590920"/>
            <a:ext cx="1981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4800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p-band rip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25146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3276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p-band atten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971440" y="2514600"/>
            <a:ext cx="4800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343400" y="2133720"/>
                <a:ext cx="3715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934320" y="4800600"/>
                <a:ext cx="3222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133720" y="5257800"/>
                <a:ext cx="311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819520" y="5257800"/>
                <a:ext cx="274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0" y="151920"/>
            <a:ext cx="647712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FIR filter length vs. transition band width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362320" y="1752480"/>
                <a:ext cx="371772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ra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f>
                          <m:fPr>
                            <m:type m:val="lin"/>
                          </m:fPr>
                          <m:num>
                            <m:r>
                              <m:t xml:space="preserve"> 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ample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1066680" y="990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nimum length of a FIR filter can be approxim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51360" y="3498840"/>
            <a:ext cx="62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requirements and you get 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4250 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6858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Assumptions so far: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4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lter-bank is implemented as a polyphase DFT filter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totype low-pass FIR filter is designed first length L (in our case L=40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ponse of the prototype is frequency-shifted by multiplying in an M-point FFT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2 * #bands = 2 * 128 = 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lter bank consists of M polyphase filters of length N=L/M (in our case: N=16) followed by an M point F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utational complexity is roughly that of a length-L FIR filter + an M-point F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410080" y="3276720"/>
                <a:ext cx="102564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947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Problems with current assumptions vs. requirement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2247840"/>
            <a:ext cx="8382240" cy="3069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L=4096, the transition b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0 kHz, not 3 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ransition band 3 kHz, L should be roughly 95000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band ali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prototype FIR can never be strictly band-limited (stop-band attenuatio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top-band rippl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), decimation results in aliasing of out-of-band (transition-band) signals to in-band frequ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65534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IR filter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523880" y="289476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286000" y="289476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2971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35053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5268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2362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048120" y="289476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3505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3581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809880" y="289476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6200" y="35053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3581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236232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2362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943600" y="289476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2971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(L-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9920" y="35053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412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358128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905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00800" y="3124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66960" y="3809880"/>
                <a:ext cx="26686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1066680" y="2971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(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2971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971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48006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LOFAR first station filter bank prototype filter, L is specified to be 40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655308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IR filter-bank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990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819520" y="144720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29000" y="1143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429000" y="144720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128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143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038480" y="144720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112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19920" y="1143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019920" y="144720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114300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29400" y="2133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762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3920" y="9907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990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990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718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12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722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66880" y="1981080"/>
            <a:ext cx="39625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143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11430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294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2940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2590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51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48720" y="2133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487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84872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77320" y="16765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077320" y="312408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24680" y="57913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152388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160020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15000" y="152388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L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1066680"/>
            <a:ext cx="0" cy="5181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12060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=1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43400" y="4419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=40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666520" y="44956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67480" y="198108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67480" y="34290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67480" y="6019920"/>
            <a:ext cx="381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9880" y="160020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438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382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819520" y="289476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429000" y="289476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812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038480" y="289476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911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1992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019920" y="289476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22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259092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2438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43400" y="2438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5000" y="2438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718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911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722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3429000"/>
            <a:ext cx="39625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66880" y="297180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304812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29718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L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304812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5029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819520" y="548568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2900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429000" y="548568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8128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4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038480" y="548568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911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19920" y="5181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019920" y="548568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7220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18148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339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43400" y="5029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5029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718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8128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9112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722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6019920"/>
            <a:ext cx="39625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66880" y="556272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563868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55627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L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9880" y="563868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0" y="1066680"/>
            <a:ext cx="15228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36232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13336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230480" y="1523880"/>
                <a:ext cx="1006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154160" y="2971800"/>
                <a:ext cx="9730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079640" y="5486400"/>
                <a:ext cx="12319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2286000" y="251460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3623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13336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510552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362320" y="5257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133360" y="586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95280" y="388620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172200" y="914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43200" y="39625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dentical) low-pass FIR fil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62920" y="40384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00600" y="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5880" y="68580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der of complex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*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25000 taps @ 64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655308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IR filter-bank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52880" y="1219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48520" y="1219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762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" y="1219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90720" y="12193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4852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48520" y="5181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90720" y="2590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67480" y="1219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467480" y="2590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67480" y="5181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96080" y="7621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96080" y="2133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43800" y="480060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10666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-12060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=1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95480" y="4114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=40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523520" y="40384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86600" y="106668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86600" y="243828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86600" y="50292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5880" y="11430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172200" y="1294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791320" y="1600200"/>
                <a:ext cx="1006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5791320" y="3048120"/>
                <a:ext cx="9730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5638680" y="5562720"/>
                <a:ext cx="12319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5791320" y="388620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172200" y="914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47920" y="3124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mplex) band-pass FIR fil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86600" y="4038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00600" y="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520" y="60199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der of complexity: L*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25000 taps @ 64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52480" y="838080"/>
            <a:ext cx="3200400" cy="762120"/>
          </a:xfrm>
          <a:prstGeom prst="rect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2362320" y="990720"/>
                <a:ext cx="20937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1752480" y="2209680"/>
            <a:ext cx="3200400" cy="762120"/>
          </a:xfrm>
          <a:prstGeom prst="rect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362320" y="2362320"/>
                <a:ext cx="20476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1752480" y="4800600"/>
            <a:ext cx="3200400" cy="762120"/>
          </a:xfrm>
          <a:prstGeom prst="rect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2057400" y="4952880"/>
                <a:ext cx="25131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495288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5880" y="25146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61722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5181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5880" y="510552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172200" y="5257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11:56:20Z</dcterms:created>
  <dc:creator>&lt;Author; fill in @ Properties&gt;</dc:creator>
  <dc:description>&lt;File reference and revision&gt;</dc:description>
  <dc:language>en-US</dc:language>
  <cp:lastModifiedBy>Jerome Dromer</cp:lastModifiedBy>
  <cp:lastPrinted>2002-06-27T06:34:33Z</cp:lastPrinted>
  <dcterms:modified xsi:type="dcterms:W3CDTF">2004-05-14T13:04:16Z</dcterms:modified>
  <cp:revision>81</cp:revision>
  <dc:subject>&lt;subject; fill-in @ Properties&gt;</dc:subject>
  <dc:title>&lt;Title, fill in @ Properties&gt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5/23/02</vt:lpwstr>
  </property>
  <property fmtid="{D5CDD505-2E9C-101B-9397-08002B2CF9AE}" pid="5" name="DocName">
    <vt:lpwstr>NEW PRESENTATION</vt:lpwstr>
  </property>
  <property fmtid="{D5CDD505-2E9C-101B-9397-08002B2CF9AE}" pid="6" name="DocNo">
    <vt:lpwstr>JAST-02:211 Uen </vt:lpwstr>
  </property>
  <property fmtid="{D5CDD505-2E9C-101B-9397-08002B2CF9AE}" pid="7" name="DocumentType">
    <vt:lpwstr>EnOHLogoNew2001</vt:lpwstr>
  </property>
  <property fmtid="{D5CDD505-2E9C-101B-9397-08002B2CF9AE}" pid="8" name="FooterType">
    <vt:lpwstr>CVL</vt:lpwstr>
  </property>
  <property fmtid="{D5CDD505-2E9C-101B-9397-08002B2CF9AE}" pid="9" name="Keyword">
    <vt:lpwstr/>
  </property>
  <property fmtid="{D5CDD505-2E9C-101B-9397-08002B2CF9AE}" pid="10" name="LeftFooterField">
    <vt:lpwstr>DocNo</vt:lpwstr>
  </property>
  <property fmtid="{D5CDD505-2E9C-101B-9397-08002B2CF9AE}" pid="11" name="MiddleFooterField">
    <vt:lpwstr>Date</vt:lpwstr>
  </property>
  <property fmtid="{D5CDD505-2E9C-101B-9397-08002B2CF9AE}" pid="12" name="Prepared">
    <vt:lpwstr>ELN/K/B Jan Stoter</vt:lpwstr>
  </property>
  <property fmtid="{D5CDD505-2E9C-101B-9397-08002B2CF9AE}" pid="13" name="Reference">
    <vt:lpwstr/>
  </property>
  <property fmtid="{D5CDD505-2E9C-101B-9397-08002B2CF9AE}" pid="14" name="Revision">
    <vt:lpwstr>PA1</vt:lpwstr>
  </property>
  <property fmtid="{D5CDD505-2E9C-101B-9397-08002B2CF9AE}" pid="15" name="RightFooterField">
    <vt:lpwstr>Title</vt:lpwstr>
  </property>
  <property fmtid="{D5CDD505-2E9C-101B-9397-08002B2CF9AE}" pid="16" name="SecClassViewType">
    <vt:lpwstr>True</vt:lpwstr>
  </property>
  <property fmtid="{D5CDD505-2E9C-101B-9397-08002B2CF9AE}" pid="17" name="SecurityClass">
    <vt:lpwstr>Limited Internal</vt:lpwstr>
  </property>
  <property fmtid="{D5CDD505-2E9C-101B-9397-08002B2CF9AE}" pid="18" name="TemplateName">
    <vt:lpwstr>EN/FAD 109 0015/8</vt:lpwstr>
  </property>
  <property fmtid="{D5CDD505-2E9C-101B-9397-08002B2CF9AE}" pid="19" name="TemplateVersion">
    <vt:lpwstr>R1A</vt:lpwstr>
  </property>
  <property fmtid="{D5CDD505-2E9C-101B-9397-08002B2CF9AE}" pid="20" name="Title">
    <vt:lpwstr>SDBB on a Multi-DSP platform</vt:lpwstr>
  </property>
  <property fmtid="{D5CDD505-2E9C-101B-9397-08002B2CF9AE}" pid="21" name="TotalNumb">
    <vt:lpwstr> </vt:lpwstr>
  </property>
  <property fmtid="{D5CDD505-2E9C-101B-9397-08002B2CF9AE}" pid="22" name="x">
    <vt:lpwstr>1</vt:lpwstr>
  </property>
</Properties>
</file>